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10288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6370560"/>
            <a:ext cx="159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858240" y="6364440"/>
            <a:ext cx="428760" cy="32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1025640" y="1089000"/>
          <a:ext cx="836928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089000"/>
                    <a:ext cx="83692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1221120" y="1392480"/>
            <a:ext cx="211860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101520"/>
            <a:ext cx="83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ate of Transplantation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ted to Patients Dialy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890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5440" y="6249960"/>
            <a:ext cx="15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1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054080" y="1149480"/>
          <a:ext cx="836928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149480"/>
                    <a:ext cx="83692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9960" y="1497240"/>
            <a:ext cx="2561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ian  (n=44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61200" y="1351080"/>
            <a:ext cx="18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54080" y="142920"/>
            <a:ext cx="83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New Transplanted Patients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ted to Race and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0890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5440" y="6249960"/>
            <a:ext cx="15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19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054080" y="1149480"/>
          <a:ext cx="836928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149480"/>
                    <a:ext cx="83692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63520" y="1497240"/>
            <a:ext cx="4030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cific Island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(n=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5840" y="8524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4080" y="142920"/>
            <a:ext cx="83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New Transplanted Patients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ted to Race and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0890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93040" y="1351080"/>
            <a:ext cx="25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5440" y="6249960"/>
            <a:ext cx="15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19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54080" y="1149480"/>
          <a:ext cx="836928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149480"/>
                    <a:ext cx="83692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223280" y="1225800"/>
            <a:ext cx="3663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ucasoid  (n=425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85840" y="8524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61200" y="1351080"/>
            <a:ext cx="18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54080" y="142920"/>
            <a:ext cx="83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New Transplanted Patients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ted to Race and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0890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5440" y="62499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19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054080" y="1149480"/>
          <a:ext cx="836928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149480"/>
                    <a:ext cx="83692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161720" y="1260720"/>
            <a:ext cx="3452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ucasoid  (n=91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5840" y="8524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54080" y="142920"/>
            <a:ext cx="83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New Transplanted Patients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ted to Race and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0890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93040" y="1351080"/>
            <a:ext cx="25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5440" y="62499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19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622440" y="863640"/>
          <a:ext cx="8826480" cy="52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863640"/>
                    <a:ext cx="882648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76640" y="1563840"/>
            <a:ext cx="6491160" cy="546120"/>
          </a:xfrm>
          <a:prstGeom prst="rect">
            <a:avLst/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50280" y="906480"/>
            <a:ext cx="311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Per Million Po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12680" y="938160"/>
            <a:ext cx="246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Australian St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47840" y="264960"/>
            <a:ext cx="775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ransplant Operations  1990 - 199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76356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6960" y="5651640"/>
            <a:ext cx="86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AUST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6          27          27          26          25          24          26        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560" y="5999040"/>
            <a:ext cx="86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NZ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30          22          33          24          23          26          26         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5440" y="636732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440" y="368280"/>
            <a:ext cx="101505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Primary Cadaver Patient Survival  1990 - 1996  </a:t>
            </a:r>
            <a:br>
              <a:rPr sz="2500"/>
            </a:b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Related to Year of Transplant</a:t>
            </a:r>
            <a:r>
              <a:rPr b="1" lang="en-US" sz="25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0" y="114840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30040" y="1754280"/>
          <a:ext cx="979020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754280"/>
                    <a:ext cx="979020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86320" y="40258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83760" y="15717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51760" y="15588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5440" y="624996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2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440" y="368280"/>
            <a:ext cx="101505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Primary Cadaver Graft Survival  1990 - 1996  </a:t>
            </a:r>
            <a:br>
              <a:rPr sz="2500"/>
            </a:b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Related to Year of Transplant</a:t>
            </a:r>
            <a:r>
              <a:rPr b="1" lang="en-US" sz="25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0" y="114840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30040" y="1754280"/>
          <a:ext cx="979020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754280"/>
                    <a:ext cx="979020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86320" y="40258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83400" y="157176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ft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51760" y="15588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5440" y="6249960"/>
            <a:ext cx="15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2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440" y="368280"/>
            <a:ext cx="101505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Primary Cadaver Patient Survival  1990 - 1996  </a:t>
            </a:r>
            <a:br>
              <a:rPr sz="2500"/>
            </a:b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Related to Year of Transplant</a:t>
            </a:r>
            <a:r>
              <a:rPr b="1" lang="en-US" sz="25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0" y="114840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30040" y="1754280"/>
          <a:ext cx="979020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754280"/>
                    <a:ext cx="979020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83760" y="15717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48120" y="15699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5440" y="624996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24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440" y="368280"/>
            <a:ext cx="101505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Primary Cadaver Graft Survival  1990 - 1996  </a:t>
            </a:r>
            <a:br>
              <a:rPr sz="2500"/>
            </a:b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Related to Year of Transplant</a:t>
            </a:r>
            <a:r>
              <a:rPr b="1" lang="en-US" sz="25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0" y="114840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30040" y="1754280"/>
          <a:ext cx="979020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754280"/>
                    <a:ext cx="979020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86320" y="40258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82680" y="157176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ft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48120" y="15699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5440" y="62499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2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360" y="339480"/>
            <a:ext cx="101505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Second and Subsequent Cadaver Patient Survival  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Related to Years of Transplant  1983 - 1997</a:t>
            </a:r>
            <a:br>
              <a:rPr sz="2700"/>
            </a:b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0480" y="1260000"/>
            <a:ext cx="10287000" cy="7488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7160" y="1554120"/>
          <a:ext cx="97279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554120"/>
                    <a:ext cx="97279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9066240" y="6707160"/>
            <a:ext cx="6602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84520" y="4408560"/>
            <a:ext cx="10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83520" y="412128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85360" y="16002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01160" y="2567160"/>
            <a:ext cx="94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07040" y="16002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5440" y="624996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27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76240" y="966960"/>
          <a:ext cx="852012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966960"/>
                    <a:ext cx="852012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681280" y="5842080"/>
            <a:ext cx="76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83400" y="1744560"/>
            <a:ext cx="1295640" cy="781200"/>
          </a:xfrm>
          <a:prstGeom prst="rect">
            <a:avLst/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23200" y="1389240"/>
            <a:ext cx="559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atients - Age Group 15-59 Yea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01520"/>
            <a:ext cx="83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ate of Transplantation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ted to Patients Dialy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890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5440" y="624996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1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440" y="252360"/>
            <a:ext cx="101505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Second and Subsequent Cadaver Graft Survival  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Related to Years of Transplant  1983 - 1997</a:t>
            </a:r>
            <a:br>
              <a:rPr sz="2700"/>
            </a:b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0" y="123732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74680" y="1538280"/>
          <a:ext cx="9732960" cy="51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538280"/>
                    <a:ext cx="973296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9097920" y="659772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16560" y="429912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5200" y="401148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03720" y="154152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ft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64520" y="2571840"/>
            <a:ext cx="94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6120" y="15415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5440" y="6249960"/>
            <a:ext cx="15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27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1240" y="147240"/>
            <a:ext cx="10148760" cy="60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Cadaver and Living Donor Transplants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ustralia  1990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0" y="1029240"/>
            <a:ext cx="10287000" cy="7452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876240" y="1270080"/>
          <a:ext cx="8508960" cy="56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70080"/>
                    <a:ext cx="850896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1674360" y="1398600"/>
            <a:ext cx="35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Number of Trans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53160" y="1890720"/>
            <a:ext cx="1600200" cy="9144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5440" y="6249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826920" y="1890720"/>
          <a:ext cx="8509320" cy="56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90720"/>
                    <a:ext cx="850932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3440" y="280800"/>
            <a:ext cx="10149120" cy="60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Related Proportion of Operations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Living Donor Grafts:   Australia 1993/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0" y="1211760"/>
            <a:ext cx="10287000" cy="7452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41760" y="157968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Percentage of Trans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62600" y="2505240"/>
            <a:ext cx="2219400" cy="939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5440" y="6249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598320" y="963720"/>
          <a:ext cx="8940960" cy="56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" y="963720"/>
                    <a:ext cx="894096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" y="282240"/>
            <a:ext cx="10148760" cy="60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Proportion of Operations - Living Donor Grafts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States: Australia and New Zealand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0" y="1184760"/>
            <a:ext cx="10287000" cy="10332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9200" y="156852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ge Group 25-44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34240" y="1959120"/>
            <a:ext cx="2133720" cy="939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5440" y="6249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6040" y="372960"/>
            <a:ext cx="10149120" cy="60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ustralian Transplantation  1990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00000"/>
            <a:ext cx="10287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30240" y="1217520"/>
          <a:ext cx="84963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0240" y="1217520"/>
                    <a:ext cx="84963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3339720" y="1209960"/>
            <a:ext cx="439056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12  month  graft  survival  CD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43240" y="1611360"/>
            <a:ext cx="708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86         84        86        85         91        90        89      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440" y="62499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3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6040" y="372960"/>
            <a:ext cx="10149120" cy="60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New Zealand Transplantation  1990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900000"/>
            <a:ext cx="10287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30240" y="1217520"/>
          <a:ext cx="84963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0240" y="1217520"/>
                    <a:ext cx="84963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3337920" y="1198800"/>
            <a:ext cx="439056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12  month  graft  survival  CD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65200" y="1687680"/>
            <a:ext cx="7085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83         82        80        74         75        84        84      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5440" y="62499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36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34720" y="226800"/>
            <a:ext cx="10150200" cy="10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Functioning Transplants   1990 - 1997</a:t>
            </a:r>
            <a:br>
              <a:rPr sz="2700"/>
            </a:b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Transplanting States:   Australia and NZ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18116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5120" y="5597640"/>
            <a:ext cx="8953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. Pa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82480" y="1676520"/>
          <a:ext cx="852984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480" y="1676520"/>
                    <a:ext cx="852984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2009520" y="5884560"/>
            <a:ext cx="6242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89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98280" y="5884560"/>
            <a:ext cx="7722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6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54080" y="5884560"/>
            <a:ext cx="7722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2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19600" y="5884560"/>
            <a:ext cx="6242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54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92520" y="5884560"/>
            <a:ext cx="7722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465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97280" y="5884560"/>
            <a:ext cx="6242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37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0" y="5884560"/>
            <a:ext cx="6242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88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70000" y="1509840"/>
            <a:ext cx="3193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atients Per Mill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5440" y="6249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650880" y="614520"/>
          <a:ext cx="882504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614520"/>
                    <a:ext cx="8825040" cy="52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685160" y="1042920"/>
            <a:ext cx="311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Per Million Po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41000" y="1042920"/>
            <a:ext cx="294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Transplanting St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86000" y="309600"/>
            <a:ext cx="77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Functioning Transplants  1990 -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0680" y="5510160"/>
            <a:ext cx="892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623960"/>
                <a:tab algn="l" pos="2473200"/>
                <a:tab algn="l" pos="3335400"/>
                <a:tab algn="l" pos="4097160"/>
                <a:tab algn="l" pos="4960800"/>
                <a:tab algn="l" pos="5808600"/>
                <a:tab algn="l" pos="6670800"/>
                <a:tab algn="l" pos="75200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AUST    191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 201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   210        218        227        233        241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 2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623960"/>
                <a:tab algn="l" pos="2473200"/>
                <a:tab algn="l" pos="3335400"/>
                <a:tab algn="l" pos="4097160"/>
                <a:tab algn="l" pos="4960800"/>
                <a:tab algn="l" pos="5808600"/>
                <a:tab algn="l" pos="6670800"/>
                <a:tab algn="l" pos="75200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NZ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168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 175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   193        200        204        215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220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 2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90504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5440" y="6249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752560" y="6416640"/>
            <a:ext cx="6075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746280" y="1400040"/>
          <a:ext cx="8496000" cy="555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1400040"/>
                    <a:ext cx="8496000" cy="555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1569960" y="903240"/>
            <a:ext cx="29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Transplants  (46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56240" y="946080"/>
            <a:ext cx="238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Total RRT (993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82720" y="1461960"/>
            <a:ext cx="85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2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087040" y="1920960"/>
            <a:ext cx="8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1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088480" y="2295360"/>
            <a:ext cx="8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38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017200" y="2768760"/>
            <a:ext cx="948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1094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17200" y="3151080"/>
            <a:ext cx="948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161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015400" y="3611520"/>
            <a:ext cx="952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2036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002800" y="4035600"/>
            <a:ext cx="948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213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17200" y="4465800"/>
            <a:ext cx="948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189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88480" y="4862520"/>
            <a:ext cx="8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534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9960" y="5284800"/>
            <a:ext cx="653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14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93760" y="33480"/>
            <a:ext cx="80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ge Group Depende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Functioning Transplants Australia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90504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5440" y="62499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0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728800" y="6451560"/>
            <a:ext cx="6075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722160" y="1407960"/>
          <a:ext cx="8496360" cy="555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1407960"/>
                    <a:ext cx="8496360" cy="555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1545840" y="93816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Transplants  (8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32480" y="981000"/>
            <a:ext cx="238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Total RRT (189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106480" y="1496880"/>
            <a:ext cx="708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133120" y="1955880"/>
            <a:ext cx="653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3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33120" y="2330280"/>
            <a:ext cx="653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86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60040" y="2803680"/>
            <a:ext cx="8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25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60040" y="3186000"/>
            <a:ext cx="8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365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43840" y="3646440"/>
            <a:ext cx="81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454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60040" y="4070520"/>
            <a:ext cx="8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4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60040" y="4500720"/>
            <a:ext cx="8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24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33120" y="4897440"/>
            <a:ext cx="653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45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07640" y="5319720"/>
            <a:ext cx="505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2160" y="33480"/>
            <a:ext cx="910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ge Group Depende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Functioning Transplants New Zealan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90504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5440" y="62499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0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165320" y="977760"/>
          <a:ext cx="82976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977760"/>
                    <a:ext cx="82976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293480" y="1505520"/>
            <a:ext cx="2885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n St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85840" y="8524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01520"/>
            <a:ext cx="83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ate of Transplantation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ted to Population (Per Mill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7964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5056200"/>
            <a:ext cx="892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Grafts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96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177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  120        9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49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17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34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502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  1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2880" y="5902200"/>
            <a:ext cx="6503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Arial"/>
              </a:rPr>
              <a:t>Eight Tasmanian residents transplanted in Vic, one in NS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Arial"/>
              </a:rPr>
              <a:t>Fifteen NT residents transplanted in SA, two in QL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694480" y="2454120"/>
            <a:ext cx="1011240" cy="60984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694480" y="2606400"/>
            <a:ext cx="101124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5440" y="6249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054080" y="1149480"/>
          <a:ext cx="836928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149480"/>
                    <a:ext cx="83692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1053720" y="1355760"/>
            <a:ext cx="33238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plants  (n=46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85840" y="8524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46160" y="1279440"/>
            <a:ext cx="3348000" cy="542880"/>
          </a:xfrm>
          <a:prstGeom prst="rect">
            <a:avLst/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36840" y="127944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09600"/>
            <a:ext cx="10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ge Distributino of Functioning Trans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90504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5440" y="62499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054080" y="1149480"/>
          <a:ext cx="836928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149480"/>
                    <a:ext cx="83692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1269720" y="1266840"/>
            <a:ext cx="26074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 Million  (2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85840" y="86364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51000" y="1193760"/>
            <a:ext cx="2622600" cy="542880"/>
          </a:xfrm>
          <a:prstGeom prst="rect">
            <a:avLst/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36840" y="127944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09600"/>
            <a:ext cx="10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ge Distributino of Functioning Trans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90504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5440" y="62499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049400" y="1150920"/>
          <a:ext cx="832464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1150920"/>
                    <a:ext cx="832464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1307880" y="1312920"/>
            <a:ext cx="30693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plants (n=8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85840" y="86364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95280" y="1212840"/>
            <a:ext cx="3081600" cy="542880"/>
          </a:xfrm>
          <a:prstGeom prst="rect">
            <a:avLst/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48840" y="129852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Zealand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09600"/>
            <a:ext cx="10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ge Distributino of Functioning Trans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0504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5440" y="62499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1054080" y="1149480"/>
          <a:ext cx="836928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149480"/>
                    <a:ext cx="83692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293480" y="1287720"/>
            <a:ext cx="26074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 Million  (2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84120" y="1206360"/>
            <a:ext cx="2613240" cy="543240"/>
          </a:xfrm>
          <a:prstGeom prst="rect">
            <a:avLst/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2960" y="12924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Zealand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09600"/>
            <a:ext cx="10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ge Distributino of Functioning Trans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90504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5440" y="62499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466560" y="1069920"/>
          <a:ext cx="9488520" cy="55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069920"/>
                    <a:ext cx="948852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040" y="291600"/>
            <a:ext cx="1015020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Number and Duration of Functioning Grafts</a:t>
            </a:r>
            <a:br>
              <a:rPr sz="2600"/>
            </a:b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Caring Country  -  Australia  1997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239840"/>
            <a:ext cx="10287000" cy="7776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40960" y="1542960"/>
            <a:ext cx="423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 Functioning  Grafts  (467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5440" y="62499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466560" y="1069920"/>
          <a:ext cx="9488520" cy="55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069920"/>
                    <a:ext cx="948852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840" y="281160"/>
            <a:ext cx="1015056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Number and Duration of Functioning Grafts</a:t>
            </a:r>
            <a:br>
              <a:rPr sz="2600"/>
            </a:b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Caring Country  -  New Zealand  1997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840" y="1239840"/>
            <a:ext cx="10244160" cy="7776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40960" y="1542960"/>
            <a:ext cx="407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 Functioning  Grafts  (86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5440" y="6249960"/>
            <a:ext cx="18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050840" y="1154160"/>
          <a:ext cx="839304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154160"/>
                    <a:ext cx="839304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1213560" y="1279800"/>
            <a:ext cx="319284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original  (n=9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85840" y="8524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36840" y="127944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3480"/>
            <a:ext cx="102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Functioning Transplant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ted to Race and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7956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5440" y="624996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3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1050840" y="1154160"/>
          <a:ext cx="839304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154160"/>
                    <a:ext cx="839304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1236240" y="1356120"/>
            <a:ext cx="238500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ori  (n=8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85840" y="8524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02960" y="12924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Zealand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3480"/>
            <a:ext cx="102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Functioning Transplant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ted to Race and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97956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6249960"/>
            <a:ext cx="15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1050840" y="1154160"/>
          <a:ext cx="839304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154160"/>
                    <a:ext cx="839304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1224000" y="1279800"/>
            <a:ext cx="260316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ian  (n=25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85840" y="8524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314840" y="127476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3480"/>
            <a:ext cx="102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Functioning Transplant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ted to Race and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7956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5440" y="62499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1050840" y="1154160"/>
          <a:ext cx="839304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154160"/>
                    <a:ext cx="839304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1237320" y="1359360"/>
            <a:ext cx="404784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cific Islander  (n=4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85840" y="905040"/>
            <a:ext cx="7615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02960" y="12924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Zealand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3480"/>
            <a:ext cx="102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Functioning Transplant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ted to Race and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97956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5440" y="62499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316160" y="601560"/>
          <a:ext cx="826596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6160" y="601560"/>
                    <a:ext cx="826596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60680" y="84780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52680" y="1608120"/>
            <a:ext cx="21589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3840" y="1631880"/>
            <a:ext cx="4116240" cy="5144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80920" y="5072040"/>
            <a:ext cx="83948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15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42        93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122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111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93       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61200" y="1351080"/>
            <a:ext cx="18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461880"/>
            <a:ext cx="83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ransplant Operations (Per Million)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0890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5440" y="624996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15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050840" y="1154160"/>
          <a:ext cx="839304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154160"/>
                    <a:ext cx="839304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1189080" y="1284480"/>
            <a:ext cx="363024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casoid  (n=423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85840" y="8524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346520" y="127944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3480"/>
            <a:ext cx="102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Functioning Transplant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ted to Race and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7956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5440" y="624996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3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050840" y="1154160"/>
          <a:ext cx="839304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154160"/>
                    <a:ext cx="839304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1214280" y="1292760"/>
            <a:ext cx="343224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casoid  (n=65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85840" y="8524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02960" y="12924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Zealand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3480"/>
            <a:ext cx="102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Functioning Transplant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ted to Race and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107964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5440" y="62499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3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2840" y="301320"/>
            <a:ext cx="95122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9904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Primary Cadaver Graft Survival  1989 - 1997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ccording to Peak Sensitization </a:t>
            </a: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(Death Censore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0" y="119268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439560" y="1434960"/>
          <a:ext cx="951264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434960"/>
                    <a:ext cx="95126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86320" y="40258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68800" y="1514520"/>
            <a:ext cx="17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60600" y="416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9280" y="3579840"/>
            <a:ext cx="346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&lt;20 v 20-49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p = 0.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&lt;20 v 50-79    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p = 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&lt;20 v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80  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p = 0.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20-49 v 50-79 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p = 0.0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20-49 v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80  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p = 0.0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50-79 v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80  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p = 0.1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024400" y="2743200"/>
            <a:ext cx="1598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% Peak P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87640" y="4319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5440" y="62499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75920" y="153720"/>
            <a:ext cx="95122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9904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Primary Cadaver Graft Survival  1989 - 1997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ccording to Sensitization at Transplantation</a:t>
            </a:r>
            <a:br>
              <a:rPr sz="2700"/>
            </a:b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(Death Censore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0" y="1437840"/>
            <a:ext cx="10287000" cy="8424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14440" y="1589040"/>
          <a:ext cx="95122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589040"/>
                    <a:ext cx="9512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28920" y="1662120"/>
            <a:ext cx="17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60600" y="416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4165560"/>
            <a:ext cx="342900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&lt;20 v 20-49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   p = 0.78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&lt;20 v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50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   p = 0.00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20-49 v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50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   p = 0.03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489520" y="2865600"/>
            <a:ext cx="1035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% PR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469360" y="430848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5440" y="62499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75920" y="153720"/>
            <a:ext cx="95122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9904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Primary Cadaver Graft Survival  1989 - 1997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br>
              <a:rPr sz="27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ccording to Sensitization:  Peak and Time of</a:t>
            </a:r>
            <a:br>
              <a:rPr sz="26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Transplantation   </a:t>
            </a: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(Patient Death Censore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0" y="145152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514440" y="1589040"/>
          <a:ext cx="95122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589040"/>
                    <a:ext cx="9512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28920" y="1662120"/>
            <a:ext cx="17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60600" y="416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828800" y="4213080"/>
            <a:ext cx="487692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P&lt;20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C&lt;20 v P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&lt;20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p = 0.003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P&lt;20  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C&lt;20 v P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p = 0.005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&lt;20  v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p = 0.495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16360" y="2666880"/>
            <a:ext cx="1035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% PR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8982000" y="4627440"/>
            <a:ext cx="314280" cy="631800"/>
            <a:chOff x="8982000" y="4627440"/>
            <a:chExt cx="314280" cy="631800"/>
          </a:xfrm>
        </p:grpSpPr>
        <p:sp>
          <p:nvSpPr>
            <p:cNvPr id="460" name=""/>
            <p:cNvSpPr/>
            <p:nvPr/>
          </p:nvSpPr>
          <p:spPr>
            <a:xfrm>
              <a:off x="8982000" y="462744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986680" y="489096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8982000" y="384660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5440" y="6249960"/>
            <a:ext cx="180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2840" y="301320"/>
            <a:ext cx="95122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9904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Subsequent Graft Survival  1989 - 1997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ccording to Peak Sensitization </a:t>
            </a: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(Death Censore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0" y="119268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439560" y="1434960"/>
          <a:ext cx="951264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434960"/>
                    <a:ext cx="95126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86320" y="40258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68800" y="1514520"/>
            <a:ext cx="17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60600" y="416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498680" y="4446720"/>
            <a:ext cx="275436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Arial"/>
              </a:rPr>
              <a:t>&lt;20 v 20-49  p=0.592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Arial"/>
              </a:rPr>
              <a:t>&lt;20 v 50-79  p=0.02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Arial"/>
              </a:rPr>
              <a:t>&lt;20 v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80</a:t>
            </a:r>
            <a:r>
              <a:rPr b="1" lang="en-AU" sz="1700" spc="-1" strike="noStrike">
                <a:solidFill>
                  <a:srgbClr val="ffffff"/>
                </a:solidFill>
                <a:latin typeface="Arial"/>
              </a:rPr>
              <a:t>    p=0.0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24400" y="2743200"/>
            <a:ext cx="1598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% Peak P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453520" y="43196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087080" y="4429080"/>
            <a:ext cx="26434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Arial"/>
              </a:rPr>
              <a:t>20-49 v 50-79  p=0.10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Arial"/>
              </a:rPr>
              <a:t>20-49 v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80   </a:t>
            </a:r>
            <a:r>
              <a:rPr b="1" lang="en-AU" sz="1700" spc="-1" strike="noStrike">
                <a:solidFill>
                  <a:srgbClr val="ffffff"/>
                </a:solidFill>
                <a:latin typeface="Arial"/>
              </a:rPr>
              <a:t> p=0.006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Arial"/>
              </a:rPr>
              <a:t>50-79 v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80   </a:t>
            </a:r>
            <a:r>
              <a:rPr b="1" lang="en-AU" sz="1700" spc="-1" strike="noStrike">
                <a:solidFill>
                  <a:srgbClr val="ffffff"/>
                </a:solidFill>
                <a:latin typeface="Arial"/>
              </a:rPr>
              <a:t> p=0.307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5440" y="6249960"/>
            <a:ext cx="180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75920" y="153720"/>
            <a:ext cx="95122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9904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Subsequent Graft Survival  1989 - 1997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ccording to Sensitization at Transplantation</a:t>
            </a:r>
            <a:br>
              <a:rPr sz="2700"/>
            </a:b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(Death Censore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0" y="145152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27040" y="1601640"/>
          <a:ext cx="95122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601640"/>
                    <a:ext cx="9512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28920" y="1662120"/>
            <a:ext cx="17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60600" y="416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489520" y="2865600"/>
            <a:ext cx="1035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% PR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585280" y="430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88520" y="4414680"/>
            <a:ext cx="376056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&lt;20 v 20-49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    p = 0.00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&lt;20 v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50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    p = 0.00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20-49 v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50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    p = 0.77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5440" y="62499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75920" y="153720"/>
            <a:ext cx="95122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9904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Subsequent Graft Survival  1989 - 1997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br>
              <a:rPr sz="27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ccording to Sensitization:  Peak and Time of</a:t>
            </a:r>
            <a:br>
              <a:rPr sz="26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Transplantation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(Patient Death Censore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0" y="145152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14440" y="1589040"/>
          <a:ext cx="95122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589040"/>
                    <a:ext cx="9512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28920" y="1662120"/>
            <a:ext cx="17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60600" y="416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316360" y="2666880"/>
            <a:ext cx="1035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% PR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8982000" y="4627440"/>
            <a:ext cx="314280" cy="631800"/>
            <a:chOff x="8982000" y="4627440"/>
            <a:chExt cx="314280" cy="631800"/>
          </a:xfrm>
        </p:grpSpPr>
        <p:sp>
          <p:nvSpPr>
            <p:cNvPr id="500" name=""/>
            <p:cNvSpPr/>
            <p:nvPr/>
          </p:nvSpPr>
          <p:spPr>
            <a:xfrm>
              <a:off x="8982000" y="462744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986680" y="489096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8982000" y="384660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733760" y="4627440"/>
            <a:ext cx="43732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Arial"/>
              </a:rPr>
              <a:t>P&lt;20  C&lt;20  v   P</a:t>
            </a:r>
            <a:r>
              <a:rPr b="1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 &lt;20</a:t>
            </a:r>
            <a:r>
              <a:rPr b="1" lang="en-AU" sz="1700" spc="-1" strike="noStrike">
                <a:solidFill>
                  <a:srgbClr val="ffffff"/>
                </a:solidFill>
                <a:latin typeface="Arial"/>
              </a:rPr>
              <a:t>    p = 0.060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Arial"/>
              </a:rPr>
              <a:t>P&lt;20  C&lt;20  v   P</a:t>
            </a:r>
            <a:r>
              <a:rPr b="1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en-AU" sz="1700" spc="-1" strike="noStrike">
                <a:solidFill>
                  <a:srgbClr val="ffffff"/>
                </a:solidFill>
                <a:latin typeface="Arial"/>
              </a:rPr>
              <a:t>    p = 0.000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50  C&lt;20  v </a:t>
            </a:r>
            <a:r>
              <a:rPr b="1" lang="en-AU" sz="1700" spc="-1" strike="noStrike">
                <a:solidFill>
                  <a:srgbClr val="ffffff"/>
                </a:solidFill>
                <a:latin typeface="Arial"/>
              </a:rPr>
              <a:t>  P</a:t>
            </a:r>
            <a:r>
              <a:rPr b="1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50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50    </a:t>
            </a:r>
            <a:r>
              <a:rPr b="1" lang="en-AU" sz="1700" spc="-1" strike="noStrike">
                <a:solidFill>
                  <a:srgbClr val="ffffff"/>
                </a:solidFill>
                <a:latin typeface="Arial"/>
              </a:rPr>
              <a:t>p = 0.207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5440" y="6249960"/>
            <a:ext cx="19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5920" y="153720"/>
            <a:ext cx="95122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9904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Primary Cadaver Graft Survival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Sensitized Recipients:  Year of Transplantation</a:t>
            </a:r>
            <a:br>
              <a:rPr sz="27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1989-91     1992-94    1995-97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0" y="145152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27040" y="1576440"/>
          <a:ext cx="95122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576440"/>
                    <a:ext cx="9512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1677960"/>
            <a:ext cx="17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60600" y="416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03320" y="4264200"/>
            <a:ext cx="353376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1989-91 v 1992-94   p = 0.77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1989-91 v 1995-97   p = 0.04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1992-94 v 1995-97   p = 0.13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460000" y="2828880"/>
            <a:ext cx="94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22960" y="17161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ak PRA    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51880" y="1701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5440" y="6249960"/>
            <a:ext cx="157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5920" y="153720"/>
            <a:ext cx="95122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9904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Subsequent Cadaver Graft Survival  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Sensitized Recipients:  Year of Transplantation</a:t>
            </a:r>
            <a:br>
              <a:rPr sz="27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1989-91     1992-94    1995-97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0" y="145152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527040" y="1576440"/>
          <a:ext cx="95122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576440"/>
                    <a:ext cx="9512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05520" y="1677960"/>
            <a:ext cx="17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60600" y="416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460000" y="2828880"/>
            <a:ext cx="94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22960" y="17161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ak PRA    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51880" y="1701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768320" y="4338720"/>
            <a:ext cx="344664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1989-91 v 1992-94   p = 0.46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1989-91 v 1995-97   p = 0.40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1992-94 v 1995-97   p = 0.91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5440" y="62499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316160" y="601560"/>
          <a:ext cx="826596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6160" y="601560"/>
                    <a:ext cx="826596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660680" y="84780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52680" y="1608120"/>
            <a:ext cx="21589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41360" y="1630440"/>
            <a:ext cx="4145040" cy="5144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80920" y="5072040"/>
            <a:ext cx="83948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5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 9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  20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20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32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20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93040" y="1351080"/>
            <a:ext cx="25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61880"/>
            <a:ext cx="83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ransplant Operations (Per Million)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890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5440" y="6249960"/>
            <a:ext cx="15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1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75920" y="153720"/>
            <a:ext cx="95122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9904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Primary Cadaver Graft Survival  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1989 - 1997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Sensitized Recipients  (Peak PRA   50%)</a:t>
            </a:r>
            <a:br>
              <a:rPr sz="27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ccording to HLA DR Mismatch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0" y="145152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527040" y="1576440"/>
          <a:ext cx="95122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576440"/>
                    <a:ext cx="9512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89320" y="1700280"/>
            <a:ext cx="17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60600" y="416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52640" y="4165560"/>
            <a:ext cx="231444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0 v 1   p = 0.49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1 v 2   p = 0.87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2 v 3   p = 0.36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59960" y="2828880"/>
            <a:ext cx="194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R Mism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93560" y="550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5440" y="6249960"/>
            <a:ext cx="180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75920" y="153720"/>
            <a:ext cx="95122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9904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Primary Cadaver Graft Survival  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1989 - 1997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Sensitized Recipients  (Peak PRA   50%)</a:t>
            </a:r>
            <a:br>
              <a:rPr sz="27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ccording to HLA AB Mismatch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0" y="145152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27040" y="1576440"/>
          <a:ext cx="95122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576440"/>
                    <a:ext cx="9512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89320" y="1700280"/>
            <a:ext cx="17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460600" y="416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09680" y="4532400"/>
            <a:ext cx="15526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p = 0.16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948800" y="2895480"/>
            <a:ext cx="194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B Mism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693560" y="550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5440" y="6249960"/>
            <a:ext cx="18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5920" y="153720"/>
            <a:ext cx="95122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9904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Primary Cadaver Graft Survival  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1989 - 1997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Sensitized Recipients  (Peak PRA   50%)</a:t>
            </a:r>
            <a:br>
              <a:rPr sz="27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ccording to HLA AB and DR Mismatch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0" y="145152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527040" y="1576440"/>
          <a:ext cx="95122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576440"/>
                    <a:ext cx="9512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89320" y="1700280"/>
            <a:ext cx="17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460600" y="416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09680" y="4532400"/>
            <a:ext cx="15526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p = 0.03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096400" y="2590920"/>
            <a:ext cx="163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B and D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m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93560" y="550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5440" y="62499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75920" y="153720"/>
            <a:ext cx="95122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9904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Subsequent Graft Survival  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1989 - 1997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Sensitized Recipients  (Peak PRA   50%)</a:t>
            </a:r>
            <a:br>
              <a:rPr sz="27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ccording to HLA DR Mismatch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0" y="145152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27040" y="1576440"/>
          <a:ext cx="95122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576440"/>
                    <a:ext cx="9512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289320" y="1700280"/>
            <a:ext cx="17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60600" y="416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728720" y="4421160"/>
            <a:ext cx="20638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0 v 1   p = 0.4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1 v 2   p = 0.3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0 v 2   p = 0.1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959960" y="2828880"/>
            <a:ext cx="194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R Mism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93560" y="550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5440" y="62499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75920" y="153720"/>
            <a:ext cx="95122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9904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Subsequent Graft Survival  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1989 - 1997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Sensitized Recipients  (Peak PRA   50%)</a:t>
            </a:r>
            <a:br>
              <a:rPr sz="27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ccording to HLA AB Mismatch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0" y="145152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27040" y="1576440"/>
          <a:ext cx="95122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576440"/>
                    <a:ext cx="9512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89320" y="1700280"/>
            <a:ext cx="17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16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14480" y="4729320"/>
            <a:ext cx="15526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p = 0.0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948800" y="2895480"/>
            <a:ext cx="194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B Mism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93560" y="550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5440" y="62499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75920" y="153720"/>
            <a:ext cx="95122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9904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Subsequent Graft Survival  </a:t>
            </a: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1989 - 1997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Sensitized Recipients  (Peak PRA   50%)</a:t>
            </a:r>
            <a:br>
              <a:rPr sz="27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ccording to HLA AB and DR Mismatch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0" y="1451520"/>
            <a:ext cx="10287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527040" y="1576440"/>
          <a:ext cx="95122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576440"/>
                    <a:ext cx="9512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289320" y="1700280"/>
            <a:ext cx="17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460600" y="416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879560" y="4813200"/>
            <a:ext cx="15526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1913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ffffff"/>
                </a:solidFill>
                <a:latin typeface="Arial"/>
              </a:rPr>
              <a:t>p = 0.0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096400" y="2590920"/>
            <a:ext cx="163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B and D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m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93560" y="550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5440" y="62499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181160" y="1359000"/>
          <a:ext cx="836928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359000"/>
                    <a:ext cx="83692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487200" y="1580040"/>
            <a:ext cx="2887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ustralia  7.7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85840" y="8524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42920"/>
            <a:ext cx="83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ransplant Rate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yed to Patients Dialy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0890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5440" y="624996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1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168560" y="1359000"/>
          <a:ext cx="836928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1359000"/>
                    <a:ext cx="83692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812560" y="1614960"/>
            <a:ext cx="3587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ew Zealand  8.8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0890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5440" y="624996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16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42920"/>
            <a:ext cx="83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ransplant Rate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yed to Patients Dialy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054080" y="1149480"/>
          <a:ext cx="836928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149480"/>
                    <a:ext cx="83692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24000" y="944640"/>
            <a:ext cx="181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5840" y="8524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91240" y="1450800"/>
            <a:ext cx="340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boriginal  (n=2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54080" y="142920"/>
            <a:ext cx="83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New Transplanted Patients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ted to Race and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0890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61200" y="1351080"/>
            <a:ext cx="18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5440" y="624996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1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054080" y="1149480"/>
          <a:ext cx="836928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149480"/>
                    <a:ext cx="83692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225080" y="1472040"/>
            <a:ext cx="25390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ori  (n=11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5840" y="8524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7600" y="235260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54080" y="142920"/>
            <a:ext cx="83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New Transplanted Patients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lated to Race and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890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93040" y="1351080"/>
            <a:ext cx="25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5440" y="62499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219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>TQEH</dc:creator>
  <dc:description/>
  <dc:language>en-US</dc:language>
  <cp:lastModifiedBy>Brian</cp:lastModifiedBy>
  <cp:lastPrinted>1999-01-08T02:53:30Z</cp:lastPrinted>
  <dcterms:modified xsi:type="dcterms:W3CDTF">2003-07-22T01:39:57Z</dcterms:modified>
  <cp:revision>726</cp:revision>
  <dc:subject/>
  <dc:title>Excell</dc:title>
</cp:coreProperties>
</file>