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6370560"/>
            <a:ext cx="159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858240" y="6288120"/>
            <a:ext cx="428760" cy="32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101502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Stock and Flow of Haemodialysis Patients</a:t>
            </a:r>
            <a:br>
              <a:rPr sz="2800"/>
            </a:b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Australia 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066680"/>
            <a:ext cx="10287000" cy="907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77880" y="1289160"/>
          <a:ext cx="8775720" cy="58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289160"/>
                    <a:ext cx="8775720" cy="58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760200" y="12556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3080" y="228600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3559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19000" y="5878440"/>
            <a:ext cx="686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0        91       92        93        94        95        96       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7080" y="63054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4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3720" y="228600"/>
            <a:ext cx="39081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Distribution of Blood Flow R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92080" y="981000"/>
          <a:ext cx="87314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981000"/>
                    <a:ext cx="87314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8128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95320" y="1042920"/>
            <a:ext cx="42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umber of Patients (31 Mar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26360" y="1233360"/>
            <a:ext cx="2582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708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99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28560" y="22860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Duration of Dialysis Treatment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Three Sessions Per Week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2960" y="1079640"/>
          <a:ext cx="8740800" cy="57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079640"/>
                    <a:ext cx="874080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9760" y="1503360"/>
            <a:ext cx="42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umber of Patients (31 Mar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83480" y="1487520"/>
            <a:ext cx="161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0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02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52960" y="291960"/>
            <a:ext cx="39081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Duration of Dialysis Treatment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Three Sessions Per Week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41320" y="1131840"/>
          <a:ext cx="87314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1131840"/>
                    <a:ext cx="87314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844200" y="1604880"/>
            <a:ext cx="42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umber of Patients (31 Mar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27880" y="1596960"/>
            <a:ext cx="212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5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0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03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34880" y="266760"/>
            <a:ext cx="57913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Haemodialysis Surface Area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8640" y="1085760"/>
          <a:ext cx="953316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085760"/>
                    <a:ext cx="953316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8380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280" y="1084320"/>
            <a:ext cx="42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umber of Patients (31 Mar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86160" y="1027080"/>
            <a:ext cx="159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789520"/>
            <a:ext cx="27936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6093000"/>
            <a:ext cx="27936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55760" y="575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880" y="5754600"/>
            <a:ext cx="898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997    7     94    208   181   552   501   444   10    567   276   203    22     97    19    147    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998    5     24    168    65    529   544   387   23    342   711   108   430   131   21     79     2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3880" y="63532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05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96720" y="228600"/>
            <a:ext cx="57913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Haemodialysis Surface Area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1200240"/>
          <a:ext cx="953316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00240"/>
                    <a:ext cx="953316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0" y="85104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22040" y="1211400"/>
            <a:ext cx="42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umber of Patients (31 Mar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02600" y="1204920"/>
            <a:ext cx="212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5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180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06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19320" y="847800"/>
          <a:ext cx="8296200" cy="43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47800"/>
                    <a:ext cx="82962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04800" y="162864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27320" y="1619280"/>
            <a:ext cx="4692600" cy="514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42840" y="3286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ge of New Haemodialysi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478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9040" y="5138640"/>
            <a:ext cx="8142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s.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       54     108      167     195     268    342      106      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8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43080" y="871560"/>
          <a:ext cx="82962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871560"/>
                    <a:ext cx="82962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04800" y="162864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7320" y="1628640"/>
            <a:ext cx="4768560" cy="568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9080" y="3160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ge of Dialysing Haemodialysi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0" y="834840"/>
            <a:ext cx="10287000" cy="12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8280" y="5126040"/>
            <a:ext cx="8224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s.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        98      317     485     633     769     921     3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89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19040" y="1195560"/>
          <a:ext cx="824724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195560"/>
                    <a:ext cx="824724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04800" y="198108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60680" y="1290600"/>
            <a:ext cx="4587840" cy="514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1000" y="30492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Haemodialysis Patients (%) of all Di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478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1920" y="62164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90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101502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Stock and Flow of Haemodialysis Patients</a:t>
            </a:r>
            <a:br>
              <a:rPr sz="2800"/>
            </a:b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New Zealand 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066680"/>
            <a:ext cx="10226520" cy="795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90560" y="1574640"/>
          <a:ext cx="880416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574640"/>
                    <a:ext cx="880416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671280" y="12304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95360" y="29718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438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31600" y="5891040"/>
            <a:ext cx="694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0       91        92        93        94        95        96        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708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91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219320" y="847800"/>
          <a:ext cx="8296200" cy="43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47800"/>
                    <a:ext cx="82962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04800" y="162864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1622520"/>
            <a:ext cx="5181840" cy="51408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2840" y="3286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ge of New Haemodialysi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478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3880" y="5114880"/>
            <a:ext cx="8336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s.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         13         29        31        66         67        58          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7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94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243080" y="871560"/>
          <a:ext cx="82962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871560"/>
                    <a:ext cx="82962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04800" y="162864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1628640"/>
            <a:ext cx="5105520" cy="568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9080" y="3160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ge of Dialysing Haemodialysi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352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9360" y="5126040"/>
            <a:ext cx="819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s.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          19         54        83       108      101        62         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95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319040" y="1195560"/>
          <a:ext cx="824724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195560"/>
                    <a:ext cx="824724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4800" y="198108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598760"/>
            <a:ext cx="5181480" cy="51408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81000" y="30492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Haemodialysis Patients (%) of all Di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478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760" y="619776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96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4480" y="244440"/>
            <a:ext cx="39081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Distribution of Blood Flow R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2960" y="1079640"/>
          <a:ext cx="8740800" cy="57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079640"/>
                    <a:ext cx="874080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77796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09440" y="1079640"/>
            <a:ext cx="42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umber of Patients (31 Mar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7200" y="1233360"/>
            <a:ext cx="181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076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98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1998-09-30T03:44:57Z</cp:lastPrinted>
  <dcterms:modified xsi:type="dcterms:W3CDTF">2003-07-22T01:39:29Z</dcterms:modified>
  <cp:revision>474</cp:revision>
  <dc:subject/>
  <dc:title>Excell</dc:title>
</cp:coreProperties>
</file>