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37056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288120"/>
            <a:ext cx="42876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1193760" y="1295280"/>
          <a:ext cx="8204400" cy="532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1295280"/>
                    <a:ext cx="820440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309240"/>
            <a:ext cx="99597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Location of Dialysis Patients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7080" y="1181880"/>
            <a:ext cx="2975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3000" y="1195560"/>
            <a:ext cx="15966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63640"/>
            <a:ext cx="10287000" cy="7920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320" y="62802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47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9600" y="33660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Method and Location of Dialysis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" y="838080"/>
            <a:ext cx="10261440" cy="10188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560" y="1120680"/>
          <a:ext cx="809280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120680"/>
                    <a:ext cx="80928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8328600" y="3159720"/>
            <a:ext cx="1567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36  (2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30040" y="4517280"/>
            <a:ext cx="156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22  (1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29680" y="2711160"/>
            <a:ext cx="156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47  (2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28600" y="2457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90  (2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5080" y="11476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9800" y="1122480"/>
            <a:ext cx="159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03120" y="19591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1-Dec-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1840" y="63565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 1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40" y="282600"/>
            <a:ext cx="101505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Dialysis Population Per Million  1992 - 1997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States:  Australia and New Zealand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60" y="1040400"/>
            <a:ext cx="10220400" cy="13500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400" y="5784840"/>
            <a:ext cx="9159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o. P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7      805   1986  1321   109    316    492            5174   1014                             145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600200"/>
          <a:ext cx="6684840" cy="42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66848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112760" y="1546200"/>
            <a:ext cx="275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953400" y="1717560"/>
          <a:ext cx="3132000" cy="401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3400" y="1717560"/>
                    <a:ext cx="313200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30760" y="63864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49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01680" y="1130400"/>
          <a:ext cx="822960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130400"/>
                    <a:ext cx="8229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00960" y="939960"/>
            <a:ext cx="2976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4800" y="198108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59000" y="1540800"/>
            <a:ext cx="24638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517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619280"/>
            <a:ext cx="2760480" cy="56520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08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0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9600" y="33660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n Patients Dialysing  31 Dec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" y="838080"/>
            <a:ext cx="10261440" cy="10188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201680" y="1130400"/>
          <a:ext cx="822960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130400"/>
                    <a:ext cx="8229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138680" y="939960"/>
            <a:ext cx="5114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s Per Million (Age Specif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04800" y="198108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9000" y="1683000"/>
            <a:ext cx="2463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27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619280"/>
            <a:ext cx="2760480" cy="56520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428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0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9600" y="33660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n Patients Dialysing  31 Dec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" y="838080"/>
            <a:ext cx="10261440" cy="10188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0160" y="204480"/>
            <a:ext cx="99597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Location of Dialysis Patients  1988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0" y="722880"/>
            <a:ext cx="10287000" cy="7452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79360" y="1271520"/>
          <a:ext cx="818856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271520"/>
                    <a:ext cx="818856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29680" y="1080360"/>
            <a:ext cx="2975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03800" y="1042920"/>
            <a:ext cx="2206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320" y="62578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3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0800" y="25236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Method and Location of Dialysis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16120"/>
            <a:ext cx="10287000" cy="9828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7080" y="1338120"/>
          <a:ext cx="8093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338120"/>
                    <a:ext cx="8093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365320" y="2602440"/>
            <a:ext cx="1425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43  (5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36960" y="5464800"/>
            <a:ext cx="12823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 (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65320" y="4533120"/>
            <a:ext cx="1425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7  (1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46240" y="172728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1-Dec-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65320" y="41752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9  (2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1720" y="113976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5200" y="11271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240" y="633564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4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9600" y="33660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Zealand Patients Dialysing  31 Dec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109044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9044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34440" y="951120"/>
            <a:ext cx="2976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555920"/>
            <a:ext cx="3060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10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492200"/>
            <a:ext cx="3060720" cy="56520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0960" y="6184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5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60" y="838080"/>
            <a:ext cx="10261440" cy="10188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19320" y="109044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9044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214640" y="951120"/>
            <a:ext cx="5114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s Per Million (Age Specif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04800" y="198108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530360"/>
            <a:ext cx="3060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27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0080" y="1428840"/>
            <a:ext cx="2882880" cy="56520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800" y="61848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5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9600" y="33660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n Patients Dialysing  31 Dec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" y="838080"/>
            <a:ext cx="10261440" cy="10188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9-01-08T02:20:28Z</cp:lastPrinted>
  <dcterms:modified xsi:type="dcterms:W3CDTF">2003-07-22T01:39:15Z</dcterms:modified>
  <cp:revision>473</cp:revision>
  <dc:subject/>
  <dc:title>Excell</dc:title>
</cp:coreProperties>
</file>