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529320"/>
            <a:ext cx="42876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200" y="142920"/>
            <a:ext cx="101502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Stock and Flow of CAPD Patients</a:t>
            </a:r>
            <a:br>
              <a:rPr sz="2800"/>
            </a:b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ustralia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0" y="892800"/>
            <a:ext cx="10287000" cy="1839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74640" y="1438200"/>
          <a:ext cx="8804160" cy="509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438200"/>
                    <a:ext cx="880416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804840" y="125244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0640" y="40165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436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9520" y="5892840"/>
            <a:ext cx="66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0       91        92       93       94       95        96       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760" y="61945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6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847800"/>
          <a:ext cx="82962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47800"/>
                    <a:ext cx="82962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4800" y="1628640"/>
            <a:ext cx="459108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Dialysing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3920" y="5113440"/>
            <a:ext cx="820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         21      34       61      126     156     118      25       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1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440" y="2552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360" y="1395360"/>
            <a:ext cx="153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&lt;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30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3400" y="61642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440" y="2552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8520" y="1382760"/>
            <a:ext cx="153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&lt;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42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7440" y="616428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840" y="2426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0" y="1134000"/>
            <a:ext cx="102744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8360" y="1371600"/>
            <a:ext cx="24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 20 - 24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54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3760" y="6164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9040" y="242640"/>
            <a:ext cx="1015020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8360" y="1371600"/>
            <a:ext cx="24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 20 - 24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66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7800" y="6164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840" y="2426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0" y="1134000"/>
            <a:ext cx="102744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8360" y="1371600"/>
            <a:ext cx="24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 25 - 29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78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07080" y="61642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e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840" y="2426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0" y="1134000"/>
            <a:ext cx="102744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8360" y="1371600"/>
            <a:ext cx="24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 25 - 29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190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7800" y="618480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f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440" y="2426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 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94040" y="134316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0 - 34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202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744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g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11160" y="139536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9536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440" y="24264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ionship of BMI to Weekly Dialysate Volume</a:t>
            </a:r>
            <a:br>
              <a:rPr sz="27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16200" y="13716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MI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0 - 34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994120" y="3238560"/>
            <a:ext cx="350640" cy="851760"/>
            <a:chOff x="2994120" y="3238560"/>
            <a:chExt cx="350640" cy="851760"/>
          </a:xfrm>
        </p:grpSpPr>
        <p:sp>
          <p:nvSpPr>
            <p:cNvPr id="214" name=""/>
            <p:cNvSpPr/>
            <p:nvPr/>
          </p:nvSpPr>
          <p:spPr>
            <a:xfrm>
              <a:off x="2994120" y="36306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94120" y="32385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07440" y="616428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2h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440" y="19188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eritonitis Free Survival  -  Australia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Related to Race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2096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06600" y="1365120"/>
          <a:ext cx="9518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365120"/>
                    <a:ext cx="9518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2800" y="1560600"/>
            <a:ext cx="40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91 to March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28840" y="355608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uca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5-5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321080"/>
            <a:ext cx="17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b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ori/Pac I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85720" y="39718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5-5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40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5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33440" y="161280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61280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730520" y="124776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90560" y="1973160"/>
            <a:ext cx="471024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4880" y="70344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CAPD Patients (%) of all Di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4776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52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1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440" y="19188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eritonitis Free Survival  -  New Zealand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Related to Race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0" y="11340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6600" y="1365120"/>
          <a:ext cx="9518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365120"/>
                    <a:ext cx="9518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52800" y="1562040"/>
            <a:ext cx="40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91 to March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4520" y="355608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uca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5-5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77080" y="4487760"/>
            <a:ext cx="17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ori/Pac I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5-5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340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5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440" y="19188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First CAPD Treatment to First Peritonitis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ed to Age at Entry   1995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0" y="1134720"/>
            <a:ext cx="10287000" cy="856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6600" y="1365120"/>
          <a:ext cx="9518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365120"/>
                    <a:ext cx="9518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23440" y="1415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76160" y="20210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g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51360" y="1415880"/>
            <a:ext cx="17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08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6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440" y="19188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First CAPD Treatment to First Peritonitis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ed to Age at Entry   1995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096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93640" y="1365120"/>
          <a:ext cx="951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365120"/>
                    <a:ext cx="951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86320" y="3924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98240" y="1403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50600" y="20336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g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83080" y="140328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744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6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861840" y="1947960"/>
          <a:ext cx="9509400" cy="49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947960"/>
                    <a:ext cx="95094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HD vs PD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0" y="15991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86320" y="373860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7320" y="191772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2720" y="4676760"/>
            <a:ext cx="168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 = &lt;0.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70880" y="1125360"/>
            <a:ext cx="555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atients Commencing  1990 - 199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08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0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801720" y="1987560"/>
          <a:ext cx="950904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1987560"/>
                    <a:ext cx="950904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HD vs PD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644480"/>
            <a:ext cx="10287000" cy="9540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86320" y="373860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05360" y="1930320"/>
            <a:ext cx="229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76240" y="4484520"/>
            <a:ext cx="15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 = 0.41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32720" y="1155600"/>
            <a:ext cx="555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atients Commencing  1990 - 199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744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0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649440" y="2008080"/>
          <a:ext cx="96739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008080"/>
                    <a:ext cx="96739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0" y="15897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86320" y="373860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90760" y="190512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71720" y="4519440"/>
            <a:ext cx="344664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980-84 vs 85-89   p = 0.027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980-84 vs 90-94   p = 0.008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980-84 vs 95-97   p = 0.027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76040" y="1101600"/>
            <a:ext cx="61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1980-84:   1985-89:   1990-94:   1995-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2406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1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649440" y="2008080"/>
          <a:ext cx="96739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008080"/>
                    <a:ext cx="96739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0" y="15897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86320" y="373860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21400" y="1917720"/>
            <a:ext cx="229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79640" y="4344840"/>
            <a:ext cx="34466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985-89 vs 95-97   p = 0.029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990-94 vs 95-97   p = 0.028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76040" y="1101600"/>
            <a:ext cx="61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1980-84:   1985-89:   1990-94:   1995-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7440" y="632448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1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727200" y="1949400"/>
          <a:ext cx="965664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949400"/>
                    <a:ext cx="965664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0" y="15897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08240" y="189864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2040" y="4595760"/>
            <a:ext cx="2433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auc vs Aborigin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 = 0.027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74960" y="1138320"/>
            <a:ext cx="436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Racial Origin    1990 - 1994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708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2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714240" y="1955880"/>
          <a:ext cx="965700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955880"/>
                    <a:ext cx="965700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6653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21400" y="1917720"/>
            <a:ext cx="229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66920" y="4319640"/>
            <a:ext cx="31982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uc  vs Pac Isl   p = 0.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ori vs Pac Isl   p = 0.0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vs Pac Isl   p = 0.04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4960" y="1138320"/>
            <a:ext cx="436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Racial Origin    1990 - 199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744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2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28560" y="1882800"/>
          <a:ext cx="9657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882800"/>
                    <a:ext cx="9657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65360"/>
            <a:ext cx="10287000" cy="25704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51040" y="192240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75600" y="1139760"/>
            <a:ext cx="634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Diabetic and Non Diabetic   1990 - 1994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170960" y="4300560"/>
            <a:ext cx="423000" cy="1129680"/>
            <a:chOff x="4170960" y="4300560"/>
            <a:chExt cx="423000" cy="1129680"/>
          </a:xfrm>
        </p:grpSpPr>
        <p:sp>
          <p:nvSpPr>
            <p:cNvPr id="332" name=""/>
            <p:cNvSpPr/>
            <p:nvPr/>
          </p:nvSpPr>
          <p:spPr>
            <a:xfrm>
              <a:off x="4170960" y="4300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06960" y="497052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708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3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3920" y="609480"/>
            <a:ext cx="995976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umber (Per Million) CAPD Patien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0" y="1064160"/>
            <a:ext cx="10287000" cy="7452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44520" y="1650960"/>
          <a:ext cx="801396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650960"/>
                    <a:ext cx="801396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378960" y="1425240"/>
            <a:ext cx="38034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tralia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440" y="2209680"/>
            <a:ext cx="2540160" cy="8636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608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2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628560" y="1900080"/>
          <a:ext cx="9657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900080"/>
                    <a:ext cx="9657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30040"/>
            <a:ext cx="94233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echnique Survival PD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 </a:t>
            </a:r>
            <a:br>
              <a:rPr sz="2700"/>
            </a:b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(Censor Death and Transplantation)</a:t>
            </a:r>
            <a:br>
              <a:rPr sz="27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0" y="1553040"/>
            <a:ext cx="1028556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8120" y="1911240"/>
            <a:ext cx="229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75600" y="1139760"/>
            <a:ext cx="634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Diabetic and Non Diabetic   1990 - 1994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170960" y="4300560"/>
            <a:ext cx="423000" cy="1129680"/>
            <a:chOff x="4170960" y="4300560"/>
            <a:chExt cx="423000" cy="1129680"/>
          </a:xfrm>
        </p:grpSpPr>
        <p:sp>
          <p:nvSpPr>
            <p:cNvPr id="343" name=""/>
            <p:cNvSpPr/>
            <p:nvPr/>
          </p:nvSpPr>
          <p:spPr>
            <a:xfrm>
              <a:off x="4170960" y="4300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06960" y="497052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744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3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1603440"/>
            <a:ext cx="417204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New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" y="5138640"/>
            <a:ext cx="8267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        18       46       67       95      142     194      72      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3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19320" y="847800"/>
          <a:ext cx="82962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47800"/>
                    <a:ext cx="82962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7320" y="1600200"/>
            <a:ext cx="438768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Dialysing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5400" y="5226120"/>
            <a:ext cx="805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        32       85      159     229     297     459     170     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200" y="104400"/>
            <a:ext cx="10150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Stock and Flow of CAPD Patients</a:t>
            </a:r>
            <a:br>
              <a:rPr sz="2800"/>
            </a:b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New Zealand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84320"/>
            <a:ext cx="10287000" cy="763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16120" y="1719360"/>
          <a:ext cx="880416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719360"/>
                    <a:ext cx="880416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763800" y="1227240"/>
            <a:ext cx="29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1920" y="2554200"/>
            <a:ext cx="181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543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2760" y="5904000"/>
            <a:ext cx="66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0       91        92       93       94        95       96       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5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238400" y="162396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62396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704960" y="124776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9440" y="2381400"/>
            <a:ext cx="2158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930320"/>
            <a:ext cx="480060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728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CAPD Patients (</a:t>
            </a:r>
            <a:r>
              <a:rPr b="1" lang="en-AU" sz="2800" spc="-1" strike="noStrike">
                <a:solidFill>
                  <a:srgbClr val="ffff00"/>
                </a:solidFill>
                <a:latin typeface="Arial Black"/>
              </a:rPr>
              <a:t>%</a:t>
            </a: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) of all Di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096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40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8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0160" y="685440"/>
            <a:ext cx="99597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umber (Per Mi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l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lion) CAPD Patien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10287000" cy="25380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3440" y="1727280"/>
          <a:ext cx="76201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727280"/>
                    <a:ext cx="76201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53520" y="1461600"/>
            <a:ext cx="4452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Zealand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4960" y="2082960"/>
            <a:ext cx="2578320" cy="86328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232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9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219320" y="83808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628640"/>
            <a:ext cx="480060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New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" y="5138640"/>
            <a:ext cx="834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         7       10        21       47       57       64        9        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0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09-30T03:44:57Z</cp:lastPrinted>
  <dcterms:modified xsi:type="dcterms:W3CDTF">2003-07-22T01:39:02Z</dcterms:modified>
  <cp:revision>473</cp:revision>
  <dc:subject/>
  <dc:title>Excell</dc:title>
</cp:coreProperties>
</file>