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6370560"/>
            <a:ext cx="159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858240" y="6288120"/>
            <a:ext cx="428760" cy="32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48960"/>
            <a:ext cx="1015056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Annual Death Rate Per 100 Dialysis Patient Years</a:t>
            </a:r>
            <a:br>
              <a:rPr sz="2700"/>
            </a:b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Australia  1993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2600" y="996840"/>
            <a:ext cx="10368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51000" y="638280"/>
          <a:ext cx="8550360" cy="49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638280"/>
                    <a:ext cx="855036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102400" y="2302560"/>
            <a:ext cx="816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26640" y="2302560"/>
            <a:ext cx="816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11000" y="2302560"/>
            <a:ext cx="816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67640" y="2302560"/>
            <a:ext cx="928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3840" y="2315160"/>
            <a:ext cx="7858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4400" y="1926000"/>
            <a:ext cx="1779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ll 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7640" y="1868040"/>
            <a:ext cx="7113600" cy="795600"/>
          </a:xfrm>
          <a:prstGeom prst="rect">
            <a:avLst/>
          </a:prstGeom>
          <a:noFill/>
          <a:ln w="1908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72880" y="5249160"/>
            <a:ext cx="1696680" cy="1201680"/>
            <a:chOff x="272880" y="5249160"/>
            <a:chExt cx="1696680" cy="1201680"/>
          </a:xfrm>
        </p:grpSpPr>
        <p:sp>
          <p:nvSpPr>
            <p:cNvPr id="52" name=""/>
            <p:cNvSpPr/>
            <p:nvPr/>
          </p:nvSpPr>
          <p:spPr>
            <a:xfrm>
              <a:off x="272880" y="5429880"/>
              <a:ext cx="676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5840" y="5876280"/>
              <a:ext cx="6760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n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6280" y="524916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21600" y="585720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27360" y="551412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35280" y="613656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085840" y="5199120"/>
            <a:ext cx="69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8                   104                   117                  137                  1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87280" y="5477040"/>
            <a:ext cx="70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7                  624                   769                  896                 1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86560" y="5802480"/>
            <a:ext cx="69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5                  493                   532                  595                  6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90160" y="609588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175                4511                 4838                5177                54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3440" y="6383160"/>
            <a:ext cx="11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Figure 113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880" y="228600"/>
            <a:ext cx="101487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Mode of Dialysis     Australia 1993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0720" y="1611360"/>
          <a:ext cx="8532720" cy="45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11360"/>
                    <a:ext cx="853272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86920" y="6622920"/>
            <a:ext cx="685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33560" y="1677960"/>
            <a:ext cx="3019320" cy="611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4640" y="27288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45000" y="27288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4640" y="183204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betic  65-84 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0" y="114408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0400" y="62866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18c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751840" y="276120"/>
            <a:ext cx="5251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Death Rate of Dialysi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ustralia 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341360" y="1185840"/>
          <a:ext cx="82933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1360" y="1185840"/>
                    <a:ext cx="82933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67200" y="1518120"/>
            <a:ext cx="46209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ercentage of Patients Dialys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81040" y="8938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362320"/>
            <a:ext cx="235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5120" y="2590920"/>
            <a:ext cx="444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  12.3%   (794 Dea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514600"/>
            <a:ext cx="4336920" cy="520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4760" y="5508720"/>
            <a:ext cx="1211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y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64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647712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56720" y="5751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        38        177       521       799     1085     1375     1771      654       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3240" y="637056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 1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16160" y="277920"/>
            <a:ext cx="7902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Death Rate Diabetic and Non Diabetic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ustralia 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63560" y="1217520"/>
          <a:ext cx="82296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1217520"/>
                    <a:ext cx="8229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2957760" y="1492560"/>
            <a:ext cx="46209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ercentage of Patients Dialys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81040" y="8938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362320"/>
            <a:ext cx="235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000" y="5530680"/>
            <a:ext cx="1211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ialys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1320" y="541008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8656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5956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13680" y="5410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3400" y="541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93280" y="541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92120" y="541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01840" y="541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86640" y="54100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25380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2280" y="5943600"/>
            <a:ext cx="8991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89080" y="5519880"/>
            <a:ext cx="279360" cy="556560"/>
            <a:chOff x="1189080" y="5519880"/>
            <a:chExt cx="279360" cy="556560"/>
          </a:xfrm>
        </p:grpSpPr>
        <p:sp>
          <p:nvSpPr>
            <p:cNvPr id="217" name=""/>
            <p:cNvSpPr/>
            <p:nvPr/>
          </p:nvSpPr>
          <p:spPr>
            <a:xfrm>
              <a:off x="1189080" y="5519880"/>
              <a:ext cx="279360" cy="228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89080" y="5848200"/>
              <a:ext cx="279360" cy="2282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926440" y="5746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9320" y="5746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53920" y="5746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46000" y="5746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93280" y="574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32000" y="5746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41720" y="5746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40200" y="5746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93680" y="5746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0240" y="5435640"/>
            <a:ext cx="80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(103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57640" y="5759280"/>
            <a:ext cx="80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(542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57920" y="5746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0444400">
            <a:off x="8770680" y="2958840"/>
            <a:ext cx="996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74720" y="2316240"/>
            <a:ext cx="4568760" cy="799920"/>
            <a:chOff x="774720" y="2316240"/>
            <a:chExt cx="4568760" cy="799920"/>
          </a:xfrm>
        </p:grpSpPr>
        <p:grpSp>
          <p:nvGrpSpPr>
            <p:cNvPr id="233" name=""/>
            <p:cNvGrpSpPr/>
            <p:nvPr/>
          </p:nvGrpSpPr>
          <p:grpSpPr>
            <a:xfrm>
              <a:off x="774720" y="2316240"/>
              <a:ext cx="4568760" cy="799920"/>
              <a:chOff x="774720" y="2316240"/>
              <a:chExt cx="4568760" cy="799920"/>
            </a:xfrm>
          </p:grpSpPr>
          <p:sp>
            <p:nvSpPr>
              <p:cNvPr id="234" name=""/>
              <p:cNvSpPr/>
              <p:nvPr/>
            </p:nvSpPr>
            <p:spPr>
              <a:xfrm>
                <a:off x="774720" y="2316240"/>
                <a:ext cx="4568760" cy="79992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32360" y="2361960"/>
                <a:ext cx="396324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AU" sz="1900" spc="-1" strike="noStrike">
                    <a:solidFill>
                      <a:srgbClr val="ffffff"/>
                    </a:solidFill>
                    <a:latin typeface="Arial"/>
                  </a:rPr>
                  <a:t>Diabetic          15.1%  </a:t>
                </a:r>
                <a:r>
                  <a:rPr b="1" lang="en-AU" sz="1800" spc="-1" strike="noStrike">
                    <a:solidFill>
                      <a:srgbClr val="ffffff"/>
                    </a:solidFill>
                    <a:latin typeface="Arial"/>
                  </a:rPr>
                  <a:t>(156 Death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1324080" y="2709720"/>
              <a:ext cx="3963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Non Diabetic  11.7%  </a:t>
              </a:r>
              <a:r>
                <a:rPr b="1" lang="en-AU" sz="1800" spc="-1" strike="noStrike">
                  <a:solidFill>
                    <a:srgbClr val="ffffff"/>
                  </a:solidFill>
                  <a:latin typeface="Arial"/>
                </a:rPr>
                <a:t>(638 Death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36720" y="2427120"/>
              <a:ext cx="279360" cy="228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36720" y="2763720"/>
              <a:ext cx="279360" cy="2282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34000" y="63244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22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16440" y="301680"/>
            <a:ext cx="6266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Death Rate of HD and CA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ustralia 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63560" y="1279440"/>
          <a:ext cx="82296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1279440"/>
                    <a:ext cx="8229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940120" y="1529280"/>
            <a:ext cx="46209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ercentage of Patients Dialys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81040" y="8938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2362320"/>
            <a:ext cx="235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0" y="5481720"/>
            <a:ext cx="1211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ialys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49640" y="540864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99520" y="54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91080" y="540864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4040" y="5408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96680" y="5408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93280" y="54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43160" y="54212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09960" y="540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5120" y="540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81080" y="54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63520" y="5470560"/>
            <a:ext cx="279360" cy="557280"/>
            <a:chOff x="1163520" y="5470560"/>
            <a:chExt cx="279360" cy="557280"/>
          </a:xfrm>
        </p:grpSpPr>
        <p:sp>
          <p:nvSpPr>
            <p:cNvPr id="259" name=""/>
            <p:cNvSpPr/>
            <p:nvPr/>
          </p:nvSpPr>
          <p:spPr>
            <a:xfrm>
              <a:off x="1163520" y="5470560"/>
              <a:ext cx="27936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3520" y="5799240"/>
              <a:ext cx="279360" cy="2286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073680" y="5722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77120" y="573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14040" y="5721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57214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93280" y="5721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05080" y="5721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70080" y="5721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7640" y="5721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25380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4400" y="5408640"/>
            <a:ext cx="80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(4829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54400" y="5734080"/>
            <a:ext cx="80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(216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14800" y="572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50960" y="2270160"/>
            <a:ext cx="3857400" cy="826920"/>
            <a:chOff x="750960" y="2270160"/>
            <a:chExt cx="3857400" cy="826920"/>
          </a:xfrm>
        </p:grpSpPr>
        <p:sp>
          <p:nvSpPr>
            <p:cNvPr id="274" name=""/>
            <p:cNvSpPr/>
            <p:nvPr/>
          </p:nvSpPr>
          <p:spPr>
            <a:xfrm>
              <a:off x="750960" y="2270160"/>
              <a:ext cx="3857400" cy="8269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888840" y="2381400"/>
              <a:ext cx="237600" cy="579240"/>
              <a:chOff x="888840" y="2381400"/>
              <a:chExt cx="237600" cy="579240"/>
            </a:xfrm>
          </p:grpSpPr>
          <p:sp>
            <p:nvSpPr>
              <p:cNvPr id="276" name=""/>
              <p:cNvSpPr/>
              <p:nvPr/>
            </p:nvSpPr>
            <p:spPr>
              <a:xfrm>
                <a:off x="888840" y="2381400"/>
                <a:ext cx="237600" cy="2286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88840" y="2732040"/>
                <a:ext cx="237600" cy="2286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1212480" y="2316240"/>
              <a:ext cx="33051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HD        10.9%   </a:t>
              </a:r>
              <a:r>
                <a:rPr b="1" lang="en-AU" sz="1800" spc="-1" strike="noStrike">
                  <a:solidFill>
                    <a:srgbClr val="ffffff"/>
                  </a:solidFill>
                  <a:latin typeface="Arial"/>
                </a:rPr>
                <a:t>(527 Death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20400" y="2664000"/>
              <a:ext cx="3303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CAPD   11.4%   </a:t>
              </a:r>
              <a:r>
                <a:rPr b="1" lang="en-AU" sz="1800" spc="-1" strike="noStrike">
                  <a:solidFill>
                    <a:srgbClr val="ffffff"/>
                  </a:solidFill>
                  <a:latin typeface="Arial"/>
                </a:rPr>
                <a:t>(248 Death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5560" y="63244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23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8960"/>
            <a:ext cx="1015056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Annual Death Rate Per 100 Dialysis Patient Years</a:t>
            </a:r>
            <a:br>
              <a:rPr sz="2700"/>
            </a:b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  New Zealand  1993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600" y="996840"/>
            <a:ext cx="10368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251000" y="638280"/>
          <a:ext cx="8550360" cy="49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638280"/>
                    <a:ext cx="855036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089800" y="2180520"/>
            <a:ext cx="816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14040" y="2180520"/>
            <a:ext cx="816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8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98040" y="2180520"/>
            <a:ext cx="816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8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54680" y="2180520"/>
            <a:ext cx="928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00880" y="2193120"/>
            <a:ext cx="7858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81440" y="1803960"/>
            <a:ext cx="1779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ll 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075040" y="1745280"/>
            <a:ext cx="7113240" cy="795240"/>
          </a:xfrm>
          <a:prstGeom prst="rect">
            <a:avLst/>
          </a:prstGeom>
          <a:noFill/>
          <a:ln w="1908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93400" y="5269680"/>
            <a:ext cx="1696680" cy="1201680"/>
            <a:chOff x="293400" y="5269680"/>
            <a:chExt cx="1696680" cy="1201680"/>
          </a:xfrm>
        </p:grpSpPr>
        <p:sp>
          <p:nvSpPr>
            <p:cNvPr id="293" name=""/>
            <p:cNvSpPr/>
            <p:nvPr/>
          </p:nvSpPr>
          <p:spPr>
            <a:xfrm>
              <a:off x="293400" y="5450400"/>
              <a:ext cx="676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6360" y="5896800"/>
              <a:ext cx="6760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n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46800" y="526968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42120" y="587772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47880" y="553464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55800" y="615708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103480" y="52196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9                    46                     59                    56                     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07080" y="5497560"/>
            <a:ext cx="70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5                  253                   311                  346                   4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03480" y="582300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9                    90                     95                    77                     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07080" y="6116760"/>
            <a:ext cx="70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01                  734                   784                  805                   8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5640" y="64468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Figure 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181160" y="1181160"/>
          <a:ext cx="853452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181160"/>
                    <a:ext cx="853452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280" y="185400"/>
            <a:ext cx="1014912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Mode of Dialysis    New Zealand  1993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0" y="106632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03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03840" y="1955880"/>
            <a:ext cx="2286000" cy="488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6640" y="5231520"/>
            <a:ext cx="1807920" cy="1201680"/>
            <a:chOff x="296640" y="5231520"/>
            <a:chExt cx="1807920" cy="1201680"/>
          </a:xfrm>
        </p:grpSpPr>
        <p:sp>
          <p:nvSpPr>
            <p:cNvPr id="311" name=""/>
            <p:cNvSpPr/>
            <p:nvPr/>
          </p:nvSpPr>
          <p:spPr>
            <a:xfrm>
              <a:off x="296640" y="5406120"/>
              <a:ext cx="796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AP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9400" y="5906160"/>
              <a:ext cx="494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61280" y="523152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56240" y="583956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62360" y="549648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0280" y="611892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226600" y="5168880"/>
            <a:ext cx="68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8                    92                    101                   76                    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29480" y="545940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4                  639                   703                  737                   7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25880" y="5784840"/>
            <a:ext cx="68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7                    43                     53                    56                     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29480" y="606600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86                  471                   500                  558                   4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8640" y="6357960"/>
            <a:ext cx="11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Figure 129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181160" y="1181160"/>
          <a:ext cx="853452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181160"/>
                    <a:ext cx="853452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8280" y="185400"/>
            <a:ext cx="1014912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Mode of Dialysis    New Zealand  1993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0" y="106632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703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03840" y="1955880"/>
            <a:ext cx="2286000" cy="488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96640" y="5257080"/>
            <a:ext cx="1807920" cy="1201680"/>
            <a:chOff x="296640" y="5257080"/>
            <a:chExt cx="1807920" cy="1201680"/>
          </a:xfrm>
        </p:grpSpPr>
        <p:sp>
          <p:nvSpPr>
            <p:cNvPr id="329" name=""/>
            <p:cNvSpPr/>
            <p:nvPr/>
          </p:nvSpPr>
          <p:spPr>
            <a:xfrm>
              <a:off x="296640" y="5431680"/>
              <a:ext cx="796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AP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9400" y="5931720"/>
              <a:ext cx="494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1280" y="525708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56240" y="586512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62360" y="552204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70280" y="614448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225880" y="5194440"/>
            <a:ext cx="68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1                    58                     59                    39                     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29480" y="548496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7                  432                   463                  476                   4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25880" y="5810400"/>
            <a:ext cx="68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5                    31                     36                    37                     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29480" y="609120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95                  377                   384                  474                   4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1200" y="1487520"/>
            <a:ext cx="22053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n Diabe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1240" y="6408720"/>
            <a:ext cx="11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Figure 130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181160" y="1181160"/>
          <a:ext cx="853452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181160"/>
                    <a:ext cx="853452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8280" y="185400"/>
            <a:ext cx="1014912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Mode of Dialysis    New Zealand  1993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0" y="106632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703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03840" y="1955880"/>
            <a:ext cx="2286000" cy="488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09240" y="5244480"/>
            <a:ext cx="1807920" cy="1201320"/>
            <a:chOff x="309240" y="5244480"/>
            <a:chExt cx="1807920" cy="1201320"/>
          </a:xfrm>
        </p:grpSpPr>
        <p:sp>
          <p:nvSpPr>
            <p:cNvPr id="348" name=""/>
            <p:cNvSpPr/>
            <p:nvPr/>
          </p:nvSpPr>
          <p:spPr>
            <a:xfrm>
              <a:off x="309240" y="5418720"/>
              <a:ext cx="796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AP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2000" y="5918760"/>
              <a:ext cx="494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73880" y="524448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68840" y="585216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74960" y="550908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82880" y="613152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238840" y="5181480"/>
            <a:ext cx="68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7                    34                     42                    37                     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42080" y="547200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                  206                   238                  257                   2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38840" y="5797440"/>
            <a:ext cx="68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                    12                     17                    19       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40640" y="6078600"/>
            <a:ext cx="69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9                    93                    115                  145                   2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07080" y="1487520"/>
            <a:ext cx="14691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abe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8640" y="6408720"/>
            <a:ext cx="11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Figure 131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751840" y="276120"/>
            <a:ext cx="5251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Death Rate of Dialysi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w Zealan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484280" y="1452600"/>
          <a:ext cx="82296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1452600"/>
                    <a:ext cx="8229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3067200" y="1518120"/>
            <a:ext cx="46209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ercentage of Patients Dialys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81040" y="8938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2362320"/>
            <a:ext cx="235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1200" y="2316240"/>
            <a:ext cx="430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  12.3%   (156 Dea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4080" y="2208240"/>
            <a:ext cx="4300560" cy="520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2760" y="5522760"/>
            <a:ext cx="12110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y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26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0000" y="647712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12960" y="5749920"/>
            <a:ext cx="76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        14        49        117       179      295       321       240       49         1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000" y="641196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34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303560" y="301680"/>
            <a:ext cx="7902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Death Rate Diabetic and Non Diabetic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w Zealand 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565280" y="1305000"/>
          <a:ext cx="82296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1305000"/>
                    <a:ext cx="82296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944800" y="1492560"/>
            <a:ext cx="46209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ercentage of Patients Dialys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81040" y="8938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362320"/>
            <a:ext cx="235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600" y="5541840"/>
            <a:ext cx="1211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ly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163520" y="5506920"/>
            <a:ext cx="279360" cy="557280"/>
            <a:chOff x="1163520" y="5506920"/>
            <a:chExt cx="279360" cy="557280"/>
          </a:xfrm>
        </p:grpSpPr>
        <p:sp>
          <p:nvSpPr>
            <p:cNvPr id="382" name=""/>
            <p:cNvSpPr/>
            <p:nvPr/>
          </p:nvSpPr>
          <p:spPr>
            <a:xfrm>
              <a:off x="1163520" y="5506920"/>
              <a:ext cx="27936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3520" y="5835600"/>
              <a:ext cx="279360" cy="2286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1430280" y="5446800"/>
            <a:ext cx="77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(407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4680" y="5773680"/>
            <a:ext cx="685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(86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4720" y="2184480"/>
            <a:ext cx="4394160" cy="749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36720" y="2270160"/>
            <a:ext cx="27936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09320" y="2205000"/>
            <a:ext cx="3903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Diabetic          15.2% 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(62 Dea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8520" y="2530440"/>
            <a:ext cx="3903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Non Diabetic  10.9% 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(94 Dea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74760" y="5432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         0           0         14        43       127       146       75         2          0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74760" y="57578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        14         49       103      136      168       175      165       47         1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28800" y="2583000"/>
            <a:ext cx="27936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8240" y="63244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35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81160" y="1181160"/>
          <a:ext cx="853452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181160"/>
                    <a:ext cx="853452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8280" y="185400"/>
            <a:ext cx="1014912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Mode of Dialysis    Australia  1993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0" y="106632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03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03840" y="1955880"/>
            <a:ext cx="2286000" cy="488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83680" y="5218920"/>
            <a:ext cx="1807920" cy="1201680"/>
            <a:chOff x="283680" y="5218920"/>
            <a:chExt cx="1807920" cy="1201680"/>
          </a:xfrm>
        </p:grpSpPr>
        <p:sp>
          <p:nvSpPr>
            <p:cNvPr id="70" name=""/>
            <p:cNvSpPr/>
            <p:nvPr/>
          </p:nvSpPr>
          <p:spPr>
            <a:xfrm>
              <a:off x="283680" y="5393520"/>
              <a:ext cx="796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AP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6440" y="5893560"/>
              <a:ext cx="494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48320" y="521892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43280" y="582696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49400" y="548388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57320" y="610632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216520" y="515628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6                  199                   215                  278                   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20480" y="544680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30                1873                 2065                2151                 21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6520" y="577224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5                  390                   421                  432                   5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20480" y="605304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87                3816                 4125                4465                 48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4960" y="6383160"/>
            <a:ext cx="11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Figure 114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29040" y="301680"/>
            <a:ext cx="6266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Death Rate of HD and CA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New Zealand 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571760" y="1092240"/>
          <a:ext cx="817380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092240"/>
                    <a:ext cx="81738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2953080" y="1492560"/>
            <a:ext cx="46209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ercentage of Patients Dialys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81040" y="89388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2362320"/>
            <a:ext cx="235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000" y="5541840"/>
            <a:ext cx="1211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ly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139760" y="5524560"/>
            <a:ext cx="279360" cy="557280"/>
            <a:chOff x="1139760" y="5524560"/>
            <a:chExt cx="279360" cy="557280"/>
          </a:xfrm>
        </p:grpSpPr>
        <p:sp>
          <p:nvSpPr>
            <p:cNvPr id="403" name=""/>
            <p:cNvSpPr/>
            <p:nvPr/>
          </p:nvSpPr>
          <p:spPr>
            <a:xfrm>
              <a:off x="1139760" y="5524560"/>
              <a:ext cx="27936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39760" y="5853240"/>
              <a:ext cx="279360" cy="2286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430280" y="5432400"/>
            <a:ext cx="77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(689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4680" y="5757840"/>
            <a:ext cx="685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(765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74760" y="5432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         2          28        79      108       166      168       121       17         0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74760" y="57578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         1          25        49       83        177      214       177       38         1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12880" y="2351160"/>
            <a:ext cx="3647880" cy="749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21560" y="2376360"/>
            <a:ext cx="3111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HD         8.8% 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(61 Dea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11120" y="2701800"/>
            <a:ext cx="3109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CAPD  11.7%  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(90 Dea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952560" y="2443320"/>
            <a:ext cx="279360" cy="564840"/>
            <a:chOff x="952560" y="2443320"/>
            <a:chExt cx="279360" cy="564840"/>
          </a:xfrm>
        </p:grpSpPr>
        <p:sp>
          <p:nvSpPr>
            <p:cNvPr id="413" name=""/>
            <p:cNvSpPr/>
            <p:nvPr/>
          </p:nvSpPr>
          <p:spPr>
            <a:xfrm>
              <a:off x="952560" y="2443320"/>
              <a:ext cx="27936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52560" y="2779560"/>
              <a:ext cx="279360" cy="2286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34000" y="63244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36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81160" y="1181160"/>
          <a:ext cx="853452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181160"/>
                    <a:ext cx="853452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" y="185400"/>
            <a:ext cx="1014912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Mode of Dialysis    Australia  1993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0" y="106632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703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03840" y="1955880"/>
            <a:ext cx="2286000" cy="488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96640" y="5269680"/>
            <a:ext cx="1807920" cy="1201680"/>
            <a:chOff x="296640" y="5269680"/>
            <a:chExt cx="1807920" cy="1201680"/>
          </a:xfrm>
        </p:grpSpPr>
        <p:sp>
          <p:nvSpPr>
            <p:cNvPr id="88" name=""/>
            <p:cNvSpPr/>
            <p:nvPr/>
          </p:nvSpPr>
          <p:spPr>
            <a:xfrm>
              <a:off x="296640" y="5444280"/>
              <a:ext cx="796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AP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9400" y="5944320"/>
              <a:ext cx="494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61280" y="526968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56240" y="587772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2360" y="553464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70280" y="615708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29480" y="520704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0                  165                   166                  211                   1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33080" y="549756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46                1545                 1661                1701                 16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29480" y="582300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17                  322                   358                  363                   4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3080" y="610380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179                3405                 3632                3899                 41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1200" y="1487520"/>
            <a:ext cx="22053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n Diabe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240" y="6396120"/>
            <a:ext cx="11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Figure 115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181160" y="1181160"/>
          <a:ext cx="853452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181160"/>
                    <a:ext cx="853452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8280" y="185400"/>
            <a:ext cx="1014912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Mode of Dialysis    Australia  1993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0" y="106632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703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840" y="1955880"/>
            <a:ext cx="2286000" cy="488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9240" y="5282640"/>
            <a:ext cx="1807920" cy="1201320"/>
            <a:chOff x="309240" y="5282640"/>
            <a:chExt cx="1807920" cy="1201320"/>
          </a:xfrm>
        </p:grpSpPr>
        <p:sp>
          <p:nvSpPr>
            <p:cNvPr id="107" name=""/>
            <p:cNvSpPr/>
            <p:nvPr/>
          </p:nvSpPr>
          <p:spPr>
            <a:xfrm>
              <a:off x="309240" y="5456880"/>
              <a:ext cx="796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AP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2000" y="5956920"/>
              <a:ext cx="494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73880" y="528264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8840" y="5890320"/>
              <a:ext cx="90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74960" y="554724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82880" y="6169680"/>
              <a:ext cx="103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Pts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238840" y="5219640"/>
            <a:ext cx="68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                    34                     49                    67                     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2080" y="551016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84                  328                   404                  450                   4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38840" y="5861160"/>
            <a:ext cx="68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8                    68                     63                    68                     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42080" y="6116760"/>
            <a:ext cx="69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8                  411                   493                  566                   6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07080" y="1487520"/>
            <a:ext cx="14691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abe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6396120"/>
            <a:ext cx="11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Figure 116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880" y="228600"/>
            <a:ext cx="101487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Mode of Dialysis    Australia  1993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0" y="114408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3600" y="1649520"/>
          <a:ext cx="8533080" cy="45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649520"/>
                    <a:ext cx="853308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86920" y="6622920"/>
            <a:ext cx="685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30320" y="1674720"/>
            <a:ext cx="3772080" cy="611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0480" y="27432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57600" y="27036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680" y="18018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  Diabetic  25-44 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7080" y="62866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17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880" y="228600"/>
            <a:ext cx="101487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Mode of Dialysis    Australia  1993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3600" y="1611360"/>
          <a:ext cx="8533080" cy="45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611360"/>
                    <a:ext cx="853308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86920" y="6622920"/>
            <a:ext cx="685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43280" y="1687680"/>
            <a:ext cx="3759120" cy="610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70480" y="27432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57600" y="27036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43640" y="176364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  Diabetic  45-64 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0" y="1144080"/>
            <a:ext cx="10287000" cy="11304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7440" y="628668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17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880" y="228600"/>
            <a:ext cx="101487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Mode of Dialysis     Australia 1993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06560" y="1611360"/>
          <a:ext cx="8532720" cy="45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11360"/>
                    <a:ext cx="853272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286920" y="6622920"/>
            <a:ext cx="685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9120" y="1700280"/>
            <a:ext cx="3797280" cy="611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70480" y="27432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57600" y="27036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4680" y="17892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  Diabetic  65-84 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0" y="114408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7080" y="62866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17c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880" y="228240"/>
            <a:ext cx="1014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Mode of Dialysis    Australia  1993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3600" y="1611360"/>
          <a:ext cx="8533080" cy="45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611360"/>
                    <a:ext cx="853308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86920" y="6622920"/>
            <a:ext cx="685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33560" y="1674720"/>
            <a:ext cx="2981520" cy="611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70480" y="27432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57600" y="27036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34640" y="177624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betic  25-44 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114408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7080" y="62866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18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880" y="228240"/>
            <a:ext cx="1014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nnual Death Rate Per 100 Patient Year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Mode of Dialysis    Australia  1993 - 1997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6560" y="1611360"/>
          <a:ext cx="8532720" cy="45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11360"/>
                    <a:ext cx="853272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772160" y="1865160"/>
            <a:ext cx="1565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71720" y="1687680"/>
            <a:ext cx="3108240" cy="610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70480" y="27432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7600" y="27036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23560" y="175104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betic  45-64 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0" y="1144080"/>
            <a:ext cx="1028700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7440" y="621036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18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1998-10-21T00:10:24Z</cp:lastPrinted>
  <dcterms:modified xsi:type="dcterms:W3CDTF">2003-07-22T01:38:44Z</dcterms:modified>
  <cp:revision>519</cp:revision>
  <dc:subject/>
  <dc:title>Excell</dc:title>
</cp:coreProperties>
</file>