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288588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47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74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47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74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12120" y="6340320"/>
            <a:ext cx="159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© ANZDATA Regis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9858240" y="6288120"/>
            <a:ext cx="428760" cy="32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" name=""/>
          <p:cNvGraphicFramePr/>
          <p:nvPr/>
        </p:nvGraphicFramePr>
        <p:xfrm>
          <a:off x="1427040" y="1725480"/>
          <a:ext cx="8296560" cy="434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7040" y="1725480"/>
                    <a:ext cx="8296560" cy="43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" name=""/>
          <p:cNvSpPr/>
          <p:nvPr/>
        </p:nvSpPr>
        <p:spPr>
          <a:xfrm>
            <a:off x="915840" y="1147680"/>
            <a:ext cx="384192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% of Age Group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11240" y="749160"/>
            <a:ext cx="761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749160"/>
            <a:ext cx="10287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97400" y="216000"/>
            <a:ext cx="864576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Arial Black"/>
              </a:rPr>
              <a:t>Proportion of Patients Awaiting Transplant  31-Mar-9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429680" y="1077840"/>
            <a:ext cx="22633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Australia 30%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89880" y="2147760"/>
            <a:ext cx="21589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1562  Pat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27960" y="2135160"/>
            <a:ext cx="2133720" cy="4446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46080" y="6010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80920" y="60102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31600" y="60102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20800" y="6010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2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09640" y="6010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3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85880" y="6010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4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49520" y="6010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3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02080" y="60102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955000" y="6010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7200" y="5904000"/>
            <a:ext cx="6793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37920" y="5769000"/>
            <a:ext cx="1119600" cy="640440"/>
            <a:chOff x="637920" y="5769000"/>
            <a:chExt cx="1119600" cy="640440"/>
          </a:xfrm>
        </p:grpSpPr>
        <p:sp>
          <p:nvSpPr>
            <p:cNvPr id="60" name=""/>
            <p:cNvSpPr/>
            <p:nvPr/>
          </p:nvSpPr>
          <p:spPr>
            <a:xfrm>
              <a:off x="649440" y="5769000"/>
              <a:ext cx="5695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1900" spc="-1" strike="noStrike">
                  <a:solidFill>
                    <a:srgbClr val="ffffff"/>
                  </a:solidFill>
                  <a:latin typeface="Arial"/>
                </a:rPr>
                <a:t>No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37920" y="6026040"/>
              <a:ext cx="11196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1900" spc="-1" strike="noStrike">
                  <a:solidFill>
                    <a:srgbClr val="ffffff"/>
                  </a:solidFill>
                  <a:latin typeface="Arial"/>
                </a:rPr>
                <a:t>Patien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636480" y="5234040"/>
            <a:ext cx="904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Age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Grou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6480" y="635328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99a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176480" y="1824120"/>
          <a:ext cx="8296200" cy="43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6480" y="1824120"/>
                    <a:ext cx="8296200" cy="43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996120" y="1300320"/>
            <a:ext cx="37566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% of Age Group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60680" y="847800"/>
            <a:ext cx="761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847800"/>
            <a:ext cx="104583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20960" y="349200"/>
            <a:ext cx="847800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 Black"/>
              </a:rPr>
              <a:t>Proportion of Patients Awaiting Transplant 31-Mar-9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97520" y="1227240"/>
            <a:ext cx="28454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New Zealand 32%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51560" y="2205000"/>
            <a:ext cx="21592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328  Pati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10520" y="2146320"/>
            <a:ext cx="2062080" cy="5205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95160" y="6062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30000" y="6062760"/>
            <a:ext cx="39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31800" y="60627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21000" y="60627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97240" y="60627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86080" y="60627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75280" y="60627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51520" y="60627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704080" y="6062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6280" y="6002280"/>
            <a:ext cx="6793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67920" y="5818320"/>
            <a:ext cx="1119600" cy="640080"/>
            <a:chOff x="367920" y="5818320"/>
            <a:chExt cx="1119600" cy="640080"/>
          </a:xfrm>
        </p:grpSpPr>
        <p:sp>
          <p:nvSpPr>
            <p:cNvPr id="84" name=""/>
            <p:cNvSpPr/>
            <p:nvPr/>
          </p:nvSpPr>
          <p:spPr>
            <a:xfrm>
              <a:off x="379440" y="5818320"/>
              <a:ext cx="5695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1900" spc="-1" strike="noStrike">
                  <a:solidFill>
                    <a:srgbClr val="ffffff"/>
                  </a:solidFill>
                  <a:latin typeface="Arial"/>
                </a:rPr>
                <a:t>No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67920" y="6075000"/>
              <a:ext cx="11196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1900" spc="-1" strike="noStrike">
                  <a:solidFill>
                    <a:srgbClr val="ffffff"/>
                  </a:solidFill>
                  <a:latin typeface="Arial"/>
                </a:rPr>
                <a:t>Patien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382680" y="5270400"/>
            <a:ext cx="904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Age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Grou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0520" y="6383160"/>
            <a:ext cx="125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99b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308240" y="1155600"/>
          <a:ext cx="836928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8240" y="1155600"/>
                    <a:ext cx="836928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196280" y="1413000"/>
            <a:ext cx="378432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% of Patients &lt;55 Year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600" y="1130400"/>
            <a:ext cx="102744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600" y="73080"/>
            <a:ext cx="10458720" cy="10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 Black"/>
              </a:rPr>
              <a:t>Proportion of Patients  &lt;55 Year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 Black"/>
              </a:rPr>
              <a:t>Awaiting Transplant  31-Mar-98</a:t>
            </a:r>
            <a:r>
              <a:rPr b="0" lang="en-US" sz="3300" spc="-1" strike="noStrike">
                <a:solidFill>
                  <a:srgbClr val="ffff00"/>
                </a:solidFill>
                <a:latin typeface="Arial Black"/>
              </a:rPr>
              <a:t>*</a:t>
            </a:r>
            <a:r>
              <a:rPr b="0" lang="en-US" sz="27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84480" y="6095880"/>
            <a:ext cx="662940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 Black"/>
              </a:rPr>
              <a:t>*</a:t>
            </a:r>
            <a:r>
              <a:rPr b="0" lang="en-US" sz="33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udes patients temporarily off the waiting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4520" y="576576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3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64920" y="576576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7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26680" y="576576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5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41440" y="57657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78000" y="576576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1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54240" y="57657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16000" y="576576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2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65080" y="57657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21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929080" y="576576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5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9200" y="5842080"/>
            <a:ext cx="6796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09680" y="5524560"/>
            <a:ext cx="1172880" cy="640440"/>
            <a:chOff x="409680" y="5524560"/>
            <a:chExt cx="1172880" cy="640440"/>
          </a:xfrm>
        </p:grpSpPr>
        <p:sp>
          <p:nvSpPr>
            <p:cNvPr id="105" name=""/>
            <p:cNvSpPr/>
            <p:nvPr/>
          </p:nvSpPr>
          <p:spPr>
            <a:xfrm>
              <a:off x="421200" y="5524560"/>
              <a:ext cx="6228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1900" spc="-1" strike="noStrike">
                  <a:solidFill>
                    <a:srgbClr val="ffffff"/>
                  </a:solidFill>
                  <a:latin typeface="Arial"/>
                </a:rPr>
                <a:t>Pts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9680" y="5781600"/>
              <a:ext cx="11728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AU" sz="1900" spc="-1" strike="noStrike">
                  <a:solidFill>
                    <a:srgbClr val="ffffff"/>
                  </a:solidFill>
                  <a:latin typeface="Arial"/>
                </a:rPr>
                <a:t>Dialyse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92960" y="635148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Figure 100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22T16:03:42Z</dcterms:created>
  <dc:creator>TQEH</dc:creator>
  <dc:description/>
  <dc:language>en-US</dc:language>
  <cp:lastModifiedBy>Brian</cp:lastModifiedBy>
  <cp:lastPrinted>1999-01-08T02:33:18Z</cp:lastPrinted>
  <dcterms:modified xsi:type="dcterms:W3CDTF">2003-07-22T01:38:30Z</dcterms:modified>
  <cp:revision>520</cp:revision>
  <dc:subject/>
  <dc:title>Excell</dc:title>
</cp:coreProperties>
</file>