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288588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47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74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47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74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58200" y="6370560"/>
            <a:ext cx="159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© ANZDATA Regis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9858240" y="6529320"/>
            <a:ext cx="428760" cy="32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5000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" name=""/>
          <p:cNvGraphicFramePr/>
          <p:nvPr/>
        </p:nvGraphicFramePr>
        <p:xfrm>
          <a:off x="736560" y="1231920"/>
          <a:ext cx="8724960" cy="524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231920"/>
                    <a:ext cx="872496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" name=""/>
          <p:cNvSpPr/>
          <p:nvPr/>
        </p:nvSpPr>
        <p:spPr>
          <a:xfrm>
            <a:off x="1574640" y="49536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Analgesic Nephropathy  1990 -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54080"/>
            <a:ext cx="102870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16280" y="139860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tients Per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21040" y="2273400"/>
            <a:ext cx="4724280" cy="43164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0760" y="6184800"/>
            <a:ext cx="113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72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5000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36560" y="1231920"/>
          <a:ext cx="8724960" cy="524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231920"/>
                    <a:ext cx="872496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5867280" y="1365120"/>
            <a:ext cx="251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 Black"/>
              </a:rPr>
              <a:t> </a:t>
            </a:r>
            <a:r>
              <a:rPr b="0" lang="en-US" sz="2200" spc="-1" strike="noStrike">
                <a:solidFill>
                  <a:srgbClr val="fafd00"/>
                </a:solidFill>
                <a:latin typeface="Arial Black"/>
              </a:rPr>
              <a:t>45-54 Yea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4440" y="133524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tients Per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92640" y="2158920"/>
            <a:ext cx="2732040" cy="54612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74640" y="49536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Analgesic Nephropathy  1990 -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054080"/>
            <a:ext cx="102870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00" y="6184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73a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5000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23960" y="1270080"/>
          <a:ext cx="8724960" cy="524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1270080"/>
                    <a:ext cx="872496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5715000" y="1322280"/>
            <a:ext cx="262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 Black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 Black"/>
              </a:rPr>
              <a:t>55-64 Yea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55960" y="132228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tients Per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30800" y="1714680"/>
            <a:ext cx="2732040" cy="54576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74640" y="49536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Analgesic Nephropathy  1990 -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054080"/>
            <a:ext cx="102870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6800" y="6184800"/>
            <a:ext cx="125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73b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5000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36560" y="1433520"/>
          <a:ext cx="8724960" cy="524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433520"/>
                    <a:ext cx="872496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6172200" y="1338120"/>
            <a:ext cx="227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 Black"/>
              </a:rPr>
              <a:t>65-74 Yea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134784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tients Per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43400" y="1765440"/>
            <a:ext cx="2732040" cy="46980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74640" y="49536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Analgesic Nephropathy  1990 -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054080"/>
            <a:ext cx="102870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5440" y="6249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73c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22T16:03:42Z</dcterms:created>
  <dc:creator>TQEH</dc:creator>
  <dc:description/>
  <dc:language>en-US</dc:language>
  <cp:lastModifiedBy>Brian</cp:lastModifiedBy>
  <cp:lastPrinted>1998-10-21T00:10:24Z</cp:lastPrinted>
  <dcterms:modified xsi:type="dcterms:W3CDTF">2003-07-22T01:38:03Z</dcterms:modified>
  <cp:revision>520</cp:revision>
  <dc:subject/>
  <dc:title>Excell</dc:title>
</cp:coreProperties>
</file>