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94840" y="647208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37704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66720" y="132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Acceptances by Race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79640" y="914400"/>
          <a:ext cx="8648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914400"/>
                    <a:ext cx="8648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111744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9280" y="15048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9520" y="2109960"/>
            <a:ext cx="2362320" cy="8269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840" y="6292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34280" y="398520"/>
            <a:ext cx="639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ge of New Patients  -  Australia 199</a:t>
            </a: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219320"/>
          <a:ext cx="82296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8229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141200" y="1372320"/>
            <a:ext cx="3381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Patients  (146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7520" y="2201760"/>
            <a:ext cx="2905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an Age  58.4 y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7520" y="2138400"/>
            <a:ext cx="2905200" cy="5205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2600" y="5130720"/>
            <a:ext cx="1558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 Mill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ge 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36440" y="53038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6200" y="53038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58880" y="53038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7760" y="53038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40000" y="53038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62440" y="5303880"/>
            <a:ext cx="69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72160" y="53038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9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05560" y="53038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67320" y="53038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29600" y="53038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2600" y="5691240"/>
            <a:ext cx="155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abetic 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35000" y="5691240"/>
            <a:ext cx="33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16200" y="56912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22600" y="56912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7760" y="56912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7400" y="56912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4720" y="56912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5520" y="56912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8920" y="56912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0" y="5691240"/>
            <a:ext cx="40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17000" y="56912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600" y="5977080"/>
            <a:ext cx="960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ype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796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736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376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30800" y="6105600"/>
            <a:ext cx="50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8560" y="6105600"/>
            <a:ext cx="67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1040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75680" y="6105600"/>
            <a:ext cx="68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&lt;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62800" y="610560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28160" y="610560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0000" y="65610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3320" y="63817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888840" y="1219320"/>
          <a:ext cx="8877600" cy="52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219320"/>
                    <a:ext cx="887760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57240" y="30636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eptance of New Patients  1990 -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ge Specific Rates  -  Austral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7160" y="1576440"/>
            <a:ext cx="275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34240" y="2438280"/>
            <a:ext cx="1981440" cy="25653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5800" y="6464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185840" y="138096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38096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933480" y="1332000"/>
            <a:ext cx="363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88960" y="78912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24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1840" y="235080"/>
            <a:ext cx="51922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 Black"/>
              </a:rPr>
              <a:t>New Patients  (Per  Million)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Arial Black"/>
              </a:rPr>
              <a:t>New Zealand  1991 -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27880" y="142092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65280" y="5761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05040" y="5761080"/>
            <a:ext cx="77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6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57680" y="57610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51000" y="573552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58080" y="57484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37000" y="57610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240" y="5494320"/>
            <a:ext cx="9100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0560" y="5757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1160" y="6240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53720" y="398520"/>
            <a:ext cx="6871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ge of New Patients  -  New Zealand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1219320"/>
          <a:ext cx="82296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8229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41200" y="1372320"/>
            <a:ext cx="31975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Patients  (31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1440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7520" y="2201760"/>
            <a:ext cx="2905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an Age  55.0 y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0480" y="2138400"/>
            <a:ext cx="2782800" cy="5205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5156280"/>
            <a:ext cx="1559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 Mill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ge 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1240" y="532908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89120" y="53164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33680" y="53290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2560" y="53290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4800" y="53290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7240" y="5329080"/>
            <a:ext cx="69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5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46600" y="53290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0000" y="5329080"/>
            <a:ext cx="62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7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42120" y="5329080"/>
            <a:ext cx="55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02520" y="531648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7040" y="5716440"/>
            <a:ext cx="155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abetic 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9800" y="5716440"/>
            <a:ext cx="33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90640" y="57164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7040" y="57164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2560" y="57164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2200" y="57164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89520" y="57164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10320" y="57164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43720" y="571644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43640" y="5716440"/>
            <a:ext cx="40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91440" y="57164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7040" y="6097680"/>
            <a:ext cx="960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ype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22400" y="615636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01800" y="615636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8200" y="615636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03720" y="6156360"/>
            <a:ext cx="50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13360" y="6156360"/>
            <a:ext cx="67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89600" y="615636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84840" y="615636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4600" y="6156360"/>
            <a:ext cx="68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37600" y="6156360"/>
            <a:ext cx="31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02600" y="6156360"/>
            <a:ext cx="31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000" y="673416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8120" y="6407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888840" y="1219320"/>
          <a:ext cx="8953560" cy="52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219320"/>
                    <a:ext cx="895356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857240" y="30636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cceptance of New Patients  1990 -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ge Specific Rates  -  New Zeal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160" y="1576440"/>
            <a:ext cx="275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46840" y="2235240"/>
            <a:ext cx="2108520" cy="2743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080" y="6292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52320" y="122400"/>
            <a:ext cx="3908520" cy="4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Acceptances by Race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1990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03400" y="1325520"/>
          <a:ext cx="8737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325520"/>
                    <a:ext cx="873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113040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41400" y="143676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38400" y="2022480"/>
            <a:ext cx="2558880" cy="1228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720" y="63244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480" y="342720"/>
            <a:ext cx="101487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Gender of New Patients  1997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n 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11360" y="1562040"/>
          <a:ext cx="90169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562040"/>
                    <a:ext cx="90169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819440"/>
            <a:ext cx="18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0" y="1130040"/>
            <a:ext cx="10287000" cy="16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86680" y="1790640"/>
            <a:ext cx="30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  5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Zealand  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720" y="62866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480" y="342720"/>
            <a:ext cx="101487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oportion of Male New Patients  1993 - 1997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Related to Racial Origi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11360" y="1409760"/>
          <a:ext cx="90169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409760"/>
                    <a:ext cx="90169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008080"/>
            <a:ext cx="183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1219680"/>
            <a:ext cx="10287000" cy="745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2960" y="20080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3720" y="63882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480" y="177480"/>
            <a:ext cx="101487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oportion of Male New Patients  1993 - 1997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Primary Renal Disease and Racial Origi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60240" y="1676520"/>
          <a:ext cx="90172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676520"/>
                    <a:ext cx="90172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7040" y="2249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b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39040" y="137304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tralia and New 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0" y="105516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2360" y="2262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87560" y="224964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cific I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10480" y="2262240"/>
            <a:ext cx="17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uca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" y="6318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0480" y="177480"/>
            <a:ext cx="101487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Patients  -  Australia 1993 -1997</a:t>
            </a:r>
            <a:br>
              <a:rPr sz="28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ean Patients Per Million Age Group Per Year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5040" y="711360"/>
          <a:ext cx="9016920" cy="49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711360"/>
                    <a:ext cx="9016920" cy="49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7720" y="1415880"/>
            <a:ext cx="159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28760" y="1392120"/>
            <a:ext cx="159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65-74 Y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0" y="105516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0444400">
            <a:off x="3352320" y="3358800"/>
            <a:ext cx="89856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6400" y="5816520"/>
            <a:ext cx="88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LD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SW  VIC TAS  SA    NT    WA                  QLD  NSW VIC  TAS   SA   NT   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444400">
            <a:off x="8235720" y="3358800"/>
            <a:ext cx="89856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184932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ust = 1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30920" y="187164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ust = 2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25880" y="62326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0960" y="6238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3720" y="6299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480" y="177480"/>
            <a:ext cx="101487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Patients  -  Australia 1993 -1997</a:t>
            </a:r>
            <a:br>
              <a:rPr sz="28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ean Patients Per Million Age Group Per Year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35040" y="711360"/>
          <a:ext cx="9016920" cy="49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711360"/>
                    <a:ext cx="9016920" cy="49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21880" y="2057400"/>
            <a:ext cx="159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55-64 Y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36680" y="2057400"/>
            <a:ext cx="159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65-74 Y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0" y="105516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400" y="5816520"/>
            <a:ext cx="88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LD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SW  VIC TAS  SA    NT    WA                  QLD  NSW VIC  TAS   SA   NT   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5840" y="258768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ust = 1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28040" y="258768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ust = 2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25880" y="62326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0960" y="6238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8720" y="13399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luding Aboriginals and Analgesic Nephr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3720" y="6299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85840" y="1380960"/>
          <a:ext cx="82962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380960"/>
                    <a:ext cx="82962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933480" y="1332000"/>
            <a:ext cx="363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88960" y="78912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92400"/>
            <a:ext cx="10248840" cy="2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2440" y="209520"/>
            <a:ext cx="53676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New Patients  (Per  Million)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Australia  1991 -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27880" y="142092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3440" y="57484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7960" y="5748480"/>
            <a:ext cx="1078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86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9880" y="574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74848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7320" y="574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74848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506920"/>
            <a:ext cx="9100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00160" y="57452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960" y="62532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152360" y="1432080"/>
          <a:ext cx="829656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432080"/>
                    <a:ext cx="829656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933480" y="1332000"/>
            <a:ext cx="363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8960" y="78912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7944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5160" y="225360"/>
            <a:ext cx="53676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New Patients  (Per  Million)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Australian States 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27880" y="142092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3440" y="57736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17640" y="577368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0280" y="57736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14360" y="57736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9600" y="5773680"/>
            <a:ext cx="60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9240" y="57736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720" y="5494320"/>
            <a:ext cx="9100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30040" y="5770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444400">
            <a:off x="6965640" y="2781000"/>
            <a:ext cx="14587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0280" y="624060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5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10-21T00:10:24Z</cp:lastPrinted>
  <dcterms:modified xsi:type="dcterms:W3CDTF">2003-07-22T01:37:52Z</dcterms:modified>
  <cp:revision>523</cp:revision>
  <dc:subject/>
  <dc:title>Excell</dc:title>
</cp:coreProperties>
</file>