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1880" y="6540480"/>
            <a:ext cx="1597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470640"/>
            <a:ext cx="42876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1066680" y="1227240"/>
          <a:ext cx="821556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27240"/>
                    <a:ext cx="821556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Living Dialysis and Transplants</a:t>
            </a:r>
            <a:br>
              <a:rPr sz="3000"/>
            </a:b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Australia</a:t>
            </a:r>
            <a:endParaRPr b="1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1028700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94400" y="1279440"/>
            <a:ext cx="321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25240" y="6067440"/>
            <a:ext cx="730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900" spc="-1" strike="noStrike">
                <a:solidFill>
                  <a:srgbClr val="ffffff"/>
                </a:solidFill>
                <a:latin typeface="Arial"/>
              </a:rPr>
              <a:t>92  </a:t>
            </a:r>
            <a:r>
              <a:rPr b="0" lang="en-AU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AU" sz="2900" spc="-1" strike="noStrike">
                <a:solidFill>
                  <a:srgbClr val="ffffff"/>
                </a:solidFill>
                <a:latin typeface="Arial"/>
              </a:rPr>
              <a:t>93       94       95        96       97</a:t>
            </a: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88200" y="1468440"/>
            <a:ext cx="2652480" cy="1454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560" y="63993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143000"/>
          <a:ext cx="759780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59780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66880" y="1765440"/>
            <a:ext cx="5105520" cy="482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2280" y="12193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1200240"/>
            <a:ext cx="21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04960" y="22860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atients Alive: Functioning Transplant or Dialysis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1987-19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66680"/>
            <a:ext cx="10287000" cy="921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600" y="627228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4065840" cy="609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Transplant and Dialysis Patients per Year</a:t>
            </a:r>
            <a:br>
              <a:rPr sz="3100"/>
            </a:b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Australia</a:t>
            </a: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79640" y="1208160"/>
          <a:ext cx="831996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208160"/>
                    <a:ext cx="831996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5840" y="1120680"/>
            <a:ext cx="358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320" y="63104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0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4065480" cy="473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Transplant and Dialysis Patients per Year</a:t>
            </a:r>
            <a:br>
              <a:rPr sz="3100"/>
            </a:b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New South Wales</a:t>
            </a: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9640" y="1208160"/>
          <a:ext cx="831996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208160"/>
                    <a:ext cx="831996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59240" y="1135080"/>
            <a:ext cx="358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080" y="63356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0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4065480" cy="473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Transplant and Dialysis Patients per Year</a:t>
            </a:r>
            <a:br>
              <a:rPr sz="3100"/>
            </a:b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Queensland</a:t>
            </a: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79640" y="1208160"/>
          <a:ext cx="831996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208160"/>
                    <a:ext cx="831996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46640" y="1136520"/>
            <a:ext cx="358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720" y="63356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4065480" cy="473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Transplant and Dialysis Patients per Year</a:t>
            </a:r>
            <a:br>
              <a:rPr sz="3100"/>
            </a:b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Victoria</a:t>
            </a: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1220760"/>
          <a:ext cx="832032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20760"/>
                    <a:ext cx="832032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6400" y="1122480"/>
            <a:ext cx="358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8120" y="63993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4065480" cy="473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Transplant and Dialysis Patients per Year</a:t>
            </a:r>
            <a:br>
              <a:rPr sz="3100"/>
            </a:b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South Australia</a:t>
            </a: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9640" y="1208160"/>
          <a:ext cx="831996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208160"/>
                    <a:ext cx="831996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7440" y="1136520"/>
            <a:ext cx="358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920" y="6386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0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4065480" cy="473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Transplant and Dialysis Patients per Year</a:t>
            </a:r>
            <a:br>
              <a:rPr sz="3100"/>
            </a:br>
            <a:r>
              <a:rPr b="0" lang="en-US" sz="3100" spc="-1" strike="noStrike">
                <a:solidFill>
                  <a:srgbClr val="fafd00"/>
                </a:solidFill>
                <a:latin typeface="Arial Black"/>
              </a:rPr>
              <a:t>Western Australia</a:t>
            </a: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9640" y="1208160"/>
          <a:ext cx="831996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208160"/>
                    <a:ext cx="831996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3400" y="1109520"/>
            <a:ext cx="358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6640" y="6361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0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6720" y="132840"/>
            <a:ext cx="390852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Treatment of Aboriginal Patients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1990 - 19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71640" y="912960"/>
          <a:ext cx="8751960" cy="57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12960"/>
                    <a:ext cx="87519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0440" y="1504800"/>
            <a:ext cx="55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Patients at 31st Dec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209680"/>
            <a:ext cx="2895480" cy="91440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920" y="6386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6720" y="132840"/>
            <a:ext cx="390852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Treatment of Maori Patients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1990 - 19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79560" y="774720"/>
          <a:ext cx="8746920" cy="567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774720"/>
                    <a:ext cx="87469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0440" y="1504800"/>
            <a:ext cx="55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Patients at 31st Dec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3720" y="2225520"/>
            <a:ext cx="2895480" cy="91764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0720" y="6348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6720" y="132840"/>
            <a:ext cx="390852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Treatment of Pacific Islander Patients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1990 - 19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20600" y="789120"/>
          <a:ext cx="8774280" cy="56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89120"/>
                    <a:ext cx="8774280" cy="56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0440" y="1504800"/>
            <a:ext cx="55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Patients at 31st Dec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8760" y="2389320"/>
            <a:ext cx="2827440" cy="9079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0720" y="6323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93520" y="457200"/>
            <a:ext cx="4800600" cy="658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New Patients - Australia</a:t>
            </a:r>
            <a:br>
              <a:rPr sz="3000"/>
            </a:br>
            <a:endParaRPr b="1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1028700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79640" y="1065240"/>
          <a:ext cx="821664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065240"/>
                    <a:ext cx="821664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92240" y="1469880"/>
            <a:ext cx="39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New Pat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636120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4360" y="31104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Method and Location of Dialysis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14400"/>
            <a:ext cx="10287000" cy="7632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43000"/>
          <a:ext cx="8093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093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328600" y="3159720"/>
            <a:ext cx="1567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36  (2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0040" y="4517280"/>
            <a:ext cx="156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22  (1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29680" y="2711160"/>
            <a:ext cx="156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47  (2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28600" y="2457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90  (2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6920" y="13003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55760" y="1273320"/>
            <a:ext cx="159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03120" y="19591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1-Dec-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480" y="6348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4360" y="311040"/>
            <a:ext cx="931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Method and Location of Dialysis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14400"/>
            <a:ext cx="10287000" cy="7632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143000"/>
          <a:ext cx="8093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093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8365320" y="2602440"/>
            <a:ext cx="1425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43  (5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36960" y="5464800"/>
            <a:ext cx="12823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 (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65320" y="4533120"/>
            <a:ext cx="1425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7  (1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46240" y="172728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1-Dec-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65320" y="41752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9  (2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61720" y="13003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440" y="1287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720" y="6386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040" y="159840"/>
            <a:ext cx="101502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ialysis Population Per Million  1992 - 1997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tates:  Australia and New Zealan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0" y="1079280"/>
            <a:ext cx="10220400" cy="13464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400" y="5784840"/>
            <a:ext cx="9159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o. P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7      805   1986   1321    109     316    492              5174   1014                               145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600200"/>
          <a:ext cx="6684840" cy="42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66848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112760" y="1546200"/>
            <a:ext cx="275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953400" y="1717560"/>
          <a:ext cx="3132000" cy="401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3400" y="1717560"/>
                    <a:ext cx="313200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93320" y="63612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185840" y="1380960"/>
          <a:ext cx="8298000" cy="43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380960"/>
                    <a:ext cx="829800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933480" y="1332000"/>
            <a:ext cx="3639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88960" y="78912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72440" y="209520"/>
            <a:ext cx="53676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New Patients  (Per  Million)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Australia  1991 - 199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27880" y="1420920"/>
            <a:ext cx="1920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3440" y="57484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77960" y="5748480"/>
            <a:ext cx="1078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86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19880" y="57484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574848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07320" y="57484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574848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506920"/>
            <a:ext cx="9100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0160" y="57452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320" y="63104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152360" y="1432080"/>
          <a:ext cx="829800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432080"/>
                    <a:ext cx="82980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933480" y="1332000"/>
            <a:ext cx="3639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88960" y="78912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85160" y="225360"/>
            <a:ext cx="53676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New Patients  (Per  Million)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Australian States  199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27880" y="1420920"/>
            <a:ext cx="1920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3440" y="57736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17640" y="5773680"/>
            <a:ext cx="76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70280" y="57736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14360" y="57736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59600" y="5773680"/>
            <a:ext cx="60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49240" y="57736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8720" y="5494320"/>
            <a:ext cx="9100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30040" y="5770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0444400">
            <a:off x="6965640" y="2781000"/>
            <a:ext cx="14587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440" y="63230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34280" y="398520"/>
            <a:ext cx="639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of New Patients  -  Australia 199</a:t>
            </a: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440" y="1219320"/>
          <a:ext cx="82328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219320"/>
                    <a:ext cx="82328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141200" y="1372320"/>
            <a:ext cx="3381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Patients  (146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91440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7520" y="2201760"/>
            <a:ext cx="2905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an Age  58.4 y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7520" y="2138400"/>
            <a:ext cx="2905200" cy="5205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5143680"/>
            <a:ext cx="1559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er Mill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ge 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11240" y="531648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90640" y="531648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33680" y="53164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2560" y="53164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4800" y="53164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7240" y="5316480"/>
            <a:ext cx="69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46600" y="53164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9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80000" y="53164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53164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8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04040" y="531648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7040" y="5703840"/>
            <a:ext cx="155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iabetic 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9800" y="5703840"/>
            <a:ext cx="331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90640" y="57038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97040" y="57038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2560" y="57038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02200" y="57038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89520" y="57038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10320" y="57038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43720" y="57038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43640" y="5703840"/>
            <a:ext cx="403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91440" y="57038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960" y="6070680"/>
            <a:ext cx="960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ype 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22400" y="61182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1800" y="611820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08200" y="611820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05240" y="6118200"/>
            <a:ext cx="50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13360" y="6118200"/>
            <a:ext cx="67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9600" y="61182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84840" y="611820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50120" y="6118200"/>
            <a:ext cx="689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&lt;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37600" y="61182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02600" y="611820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0000" y="65610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1480" y="63738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888840" y="1216080"/>
          <a:ext cx="8877600" cy="52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216080"/>
                    <a:ext cx="88776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857240" y="30636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cceptance of New Patients  1990 - 199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ge Specific Rates  -  Austral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7160" y="1576440"/>
            <a:ext cx="275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34240" y="2438280"/>
            <a:ext cx="1981440" cy="25653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920" y="63104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1015056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Annual Death Rate Per 100 Dialysis Patient Years</a:t>
            </a:r>
            <a:br>
              <a:rPr sz="2700"/>
            </a:b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Australia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600" y="990720"/>
            <a:ext cx="10274400" cy="8100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249200" y="638280"/>
          <a:ext cx="85536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638280"/>
                    <a:ext cx="85536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102400" y="230256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6640" y="230256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11000" y="230256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7640" y="2302560"/>
            <a:ext cx="928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13840" y="2315160"/>
            <a:ext cx="785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94400" y="1926000"/>
            <a:ext cx="1779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ll 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087640" y="1868040"/>
            <a:ext cx="7113600" cy="795600"/>
          </a:xfrm>
          <a:prstGeom prst="rect">
            <a:avLst/>
          </a:prstGeom>
          <a:noFill/>
          <a:ln w="1908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06360" y="5307840"/>
            <a:ext cx="1696320" cy="1201680"/>
            <a:chOff x="306360" y="5307840"/>
            <a:chExt cx="1696320" cy="1201680"/>
          </a:xfrm>
        </p:grpSpPr>
        <p:sp>
          <p:nvSpPr>
            <p:cNvPr id="298" name=""/>
            <p:cNvSpPr/>
            <p:nvPr/>
          </p:nvSpPr>
          <p:spPr>
            <a:xfrm>
              <a:off x="306360" y="5488560"/>
              <a:ext cx="676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8600" y="5934960"/>
              <a:ext cx="6760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n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59040" y="530784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54360" y="59158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60480" y="557280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68400" y="619524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19320" y="5257800"/>
            <a:ext cx="69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8                   104                   117                  137                  1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20760" y="5535720"/>
            <a:ext cx="70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7                  624                   769                  896                 1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20040" y="5861160"/>
            <a:ext cx="69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5                  493                   532                  595                  6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23640" y="615456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175                4511                 4838                5177                54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320" y="6394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1181160" y="1179360"/>
          <a:ext cx="8535960" cy="42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79360"/>
                    <a:ext cx="853596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8280" y="185400"/>
            <a:ext cx="1014912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0" y="1066320"/>
            <a:ext cx="10287000" cy="763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703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03840" y="1955880"/>
            <a:ext cx="2286000" cy="488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96640" y="5295240"/>
            <a:ext cx="1807920" cy="1201680"/>
            <a:chOff x="296640" y="5295240"/>
            <a:chExt cx="1807920" cy="1201680"/>
          </a:xfrm>
        </p:grpSpPr>
        <p:sp>
          <p:nvSpPr>
            <p:cNvPr id="316" name=""/>
            <p:cNvSpPr/>
            <p:nvPr/>
          </p:nvSpPr>
          <p:spPr>
            <a:xfrm>
              <a:off x="296640" y="5469840"/>
              <a:ext cx="796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AP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400" y="5969880"/>
              <a:ext cx="494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1280" y="529524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56240" y="59032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360" y="556020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70280" y="618264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229480" y="523224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6                  199                   215                  278                   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33080" y="552276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30                1873                 2065                2151                 21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29480" y="584820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5                  390                   421                  432                   5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33080" y="612936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87                3816                 4125                4465                 48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800" y="63691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7520" y="290520"/>
            <a:ext cx="101505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Graft Loss in Relation to Grafts at Ris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  1990 - 1997</a:t>
            </a:r>
            <a:br>
              <a:rPr sz="30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44520"/>
            <a:ext cx="10287000" cy="1270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371600" y="1295280"/>
          <a:ext cx="822024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822024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362160" y="5918040"/>
            <a:ext cx="122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o. Graf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o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38440" y="608328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98920" y="6083280"/>
            <a:ext cx="6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46520" y="60818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08440" y="6081840"/>
            <a:ext cx="6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3560" y="609444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88080" y="608328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83480" y="60818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31360" y="60818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120" y="6411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30200" y="457200"/>
            <a:ext cx="6019560" cy="517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Transplants Performed - Australia</a:t>
            </a:r>
            <a:br>
              <a:rPr sz="3000"/>
            </a:br>
            <a:endParaRPr b="1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10287000" cy="907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92240" y="1332000"/>
          <a:ext cx="8217000" cy="52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332000"/>
                    <a:ext cx="821700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3120" y="1471680"/>
            <a:ext cx="380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Transpl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133720"/>
            <a:ext cx="2590920" cy="56808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920" y="63612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6040" y="372960"/>
            <a:ext cx="10149120" cy="60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n Transplantation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900000"/>
            <a:ext cx="10287000" cy="907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928800" y="1216080"/>
          <a:ext cx="8499240" cy="56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216080"/>
                    <a:ext cx="849924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3339720" y="1209960"/>
            <a:ext cx="43905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2  month  graft  survival  CD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43240" y="1611360"/>
            <a:ext cx="708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86         84        86        85         91        90        89 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4840" y="63104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1427040" y="1725480"/>
          <a:ext cx="8298000" cy="43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725480"/>
                    <a:ext cx="829800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915840" y="1147680"/>
            <a:ext cx="38419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of Age Group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1240" y="74916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74916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7400" y="216000"/>
            <a:ext cx="8645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roportion of Patients Awaiting Transplant  31-Mar-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29680" y="1077840"/>
            <a:ext cx="2263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ustralia 3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89880" y="214776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562 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27960" y="2135160"/>
            <a:ext cx="2133720" cy="4446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46080" y="6132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80920" y="6132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31600" y="61326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20800" y="6132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9640" y="6132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85880" y="6132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49520" y="6132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3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02080" y="6132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955000" y="6132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7200" y="5904000"/>
            <a:ext cx="679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7920" y="5891040"/>
            <a:ext cx="1119600" cy="640440"/>
            <a:chOff x="637920" y="5891040"/>
            <a:chExt cx="1119600" cy="640440"/>
          </a:xfrm>
        </p:grpSpPr>
        <p:sp>
          <p:nvSpPr>
            <p:cNvPr id="368" name=""/>
            <p:cNvSpPr/>
            <p:nvPr/>
          </p:nvSpPr>
          <p:spPr>
            <a:xfrm>
              <a:off x="649440" y="5891040"/>
              <a:ext cx="5695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No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7920" y="6148080"/>
              <a:ext cx="111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Pati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36480" y="5234040"/>
            <a:ext cx="904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Ag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5160" y="64072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182600" y="1355760"/>
          <a:ext cx="836460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355760"/>
                    <a:ext cx="836460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87200" y="1580040"/>
            <a:ext cx="288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ustralia  7.7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8880" y="63230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7360" y="216000"/>
            <a:ext cx="101696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Transplantation Rate 19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Related to Patients Dialy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1170000" y="1355760"/>
          <a:ext cx="836460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355760"/>
                    <a:ext cx="836460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5812560" y="1614960"/>
            <a:ext cx="35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Zealand  8.8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4440" y="62974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7360" y="216000"/>
            <a:ext cx="101696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Transplantation Rate 19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Related to Patients Dialy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896760" y="628560"/>
          <a:ext cx="89982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628560"/>
                    <a:ext cx="89982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90400" y="165240"/>
            <a:ext cx="90345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ransplant Operations (Per Million)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n States 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0" y="1050480"/>
            <a:ext cx="1028700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82320" y="144144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27  (n=5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4040" y="4946760"/>
            <a:ext cx="8272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Grafts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96        177         120          9            49         17           34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86520" y="5802480"/>
            <a:ext cx="68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ight Tasmanian residents transplanted in Vic, one in N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ifteen NT residents transplanted in SA, two in Q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378480" y="2990520"/>
            <a:ext cx="1011240" cy="762480"/>
            <a:chOff x="6378480" y="2990520"/>
            <a:chExt cx="1011240" cy="762480"/>
          </a:xfrm>
        </p:grpSpPr>
        <p:sp>
          <p:nvSpPr>
            <p:cNvPr id="395" name=""/>
            <p:cNvSpPr/>
            <p:nvPr/>
          </p:nvSpPr>
          <p:spPr>
            <a:xfrm flipV="1">
              <a:off x="6378480" y="2990520"/>
              <a:ext cx="1011240" cy="609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378480" y="3143160"/>
              <a:ext cx="10112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31480" y="63356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320" y="178920"/>
            <a:ext cx="101505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ransplant Operations Perform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 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0" y="1158840"/>
            <a:ext cx="1025208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6454800"/>
            <a:ext cx="1271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060560" y="1160640"/>
          <a:ext cx="8788320" cy="54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1160640"/>
                    <a:ext cx="8788320" cy="54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334080" y="5992200"/>
            <a:ext cx="852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28320" y="167148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9960" y="64501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752560" y="6416640"/>
            <a:ext cx="6075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746280" y="1397160"/>
          <a:ext cx="8496000" cy="55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397160"/>
                    <a:ext cx="849600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1569960" y="99216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ransplants  (46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56240" y="984240"/>
            <a:ext cx="23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Total RRT (99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560" y="10152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afd00"/>
                </a:solidFill>
                <a:latin typeface="Arial"/>
              </a:rPr>
              <a:t>Age Group Dependence on Functioning Trans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afd00"/>
                </a:solidFill>
                <a:latin typeface="Arial"/>
              </a:rPr>
              <a:t>Australia 1997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082720" y="1461960"/>
            <a:ext cx="85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87040" y="192096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88480" y="229536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8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17200" y="276876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09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17200" y="315108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61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15400" y="3611520"/>
            <a:ext cx="95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036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2800" y="403560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13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7200" y="446580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89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88480" y="486252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53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29960" y="528480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3320" y="63482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20" y="1041480"/>
            <a:ext cx="10266480" cy="101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728800" y="6451560"/>
            <a:ext cx="6075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722160" y="1405080"/>
          <a:ext cx="8496360" cy="55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405080"/>
                    <a:ext cx="849636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545840" y="10018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ransplants  (8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32480" y="1108080"/>
            <a:ext cx="23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Total RRT (189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06480" y="1496880"/>
            <a:ext cx="708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33120" y="195588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33120" y="233028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86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60040" y="280368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5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60040" y="318600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65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43840" y="3646440"/>
            <a:ext cx="81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45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60040" y="407052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4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60040" y="450072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4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33120" y="489744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45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07640" y="5319720"/>
            <a:ext cx="505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8880" y="63356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8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0152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afd00"/>
                </a:solidFill>
                <a:latin typeface="Arial"/>
              </a:rPr>
              <a:t>Age Group Dependence on Functioning Trans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afd00"/>
                </a:solidFill>
                <a:latin typeface="Arial"/>
              </a:rPr>
              <a:t>New Zealand 1997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20" y="1041480"/>
            <a:ext cx="10266480" cy="101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34720" y="226800"/>
            <a:ext cx="10150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Functioning Transplants   1990 - 1997</a:t>
            </a:r>
            <a:br>
              <a:rPr sz="27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Transplanting States:   Australia and NZ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1811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5120" y="5867280"/>
            <a:ext cx="89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Pa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581040" y="1677960"/>
          <a:ext cx="853452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677960"/>
                    <a:ext cx="85345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2009520" y="615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9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98280" y="6154560"/>
            <a:ext cx="772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6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54080" y="6154560"/>
            <a:ext cx="772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2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19600" y="615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4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92520" y="6154560"/>
            <a:ext cx="772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465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97280" y="615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37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0" y="615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8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70000" y="1509840"/>
            <a:ext cx="3193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8120" y="6411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28560" y="22860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Functioning Transplants (Per Million)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and New Zealand  1992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95320" y="1081080"/>
          <a:ext cx="872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081080"/>
                    <a:ext cx="872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0" y="119376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1480" y="63104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82440" y="380880"/>
            <a:ext cx="441972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Deaths - Australia </a:t>
            </a:r>
            <a:br>
              <a:rPr sz="3000"/>
            </a:br>
            <a:endParaRPr b="1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10287000" cy="907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93680" y="1314360"/>
          <a:ext cx="82170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1314360"/>
                    <a:ext cx="82170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332000" y="144612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Deat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7760" y="2127240"/>
            <a:ext cx="4419720" cy="568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3680" y="637380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28560" y="22860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Functioning Transplants (Per Million)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Caring Australian States 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895320" y="1057320"/>
          <a:ext cx="8729640" cy="57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057320"/>
                    <a:ext cx="87296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0" y="119376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4080" y="63738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440" y="36828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Patient Survival  1990 - 1996  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Related to Year of Transplant</a:t>
            </a:r>
            <a:r>
              <a:rPr b="1" lang="en-US" sz="25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0" y="11484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30040" y="1754280"/>
          <a:ext cx="97902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754280"/>
                    <a:ext cx="97902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83760" y="15717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51760" y="1558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5920" y="63738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440" y="36828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Graft Survival  1990 - 1996  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Related to Year of Transplant</a:t>
            </a:r>
            <a:r>
              <a:rPr b="1" lang="en-US" sz="25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0" y="11484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30040" y="1754280"/>
          <a:ext cx="97902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754280"/>
                    <a:ext cx="97902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83400" y="157176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f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51760" y="1558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9640" y="6323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93153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revalence and Incidence  1990 - 1997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Aboriginals  -  Australia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1257480"/>
            <a:ext cx="10287000" cy="7776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99880" y="1698480"/>
          <a:ext cx="758052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98480"/>
                    <a:ext cx="758052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7997040" y="1688040"/>
            <a:ext cx="1845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 )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550360" y="1992240"/>
            <a:ext cx="1127160" cy="0"/>
          </a:xfrm>
          <a:prstGeom prst="line">
            <a:avLst/>
          </a:prstGeom>
          <a:ln w="13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175600" y="4302720"/>
            <a:ext cx="1492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62840" y="4672800"/>
            <a:ext cx="2019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lant  (2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68760" y="4152240"/>
            <a:ext cx="1665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Pts (4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00440" y="4965120"/>
            <a:ext cx="1600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ths (22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26440" y="5346000"/>
            <a:ext cx="1349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53520" y="5563440"/>
            <a:ext cx="1095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s (6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18360" y="2171160"/>
            <a:ext cx="1765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ysis (12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44280" y="154476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9640" y="62848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6040" y="199800"/>
            <a:ext cx="931572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revalence and Incidence  1990 - 1997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Maoris -  New Zealand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1219320"/>
            <a:ext cx="10287000" cy="7776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17520" y="1731960"/>
          <a:ext cx="758016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731960"/>
                    <a:ext cx="75801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8014320" y="1721520"/>
            <a:ext cx="1845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 )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567640" y="2025720"/>
            <a:ext cx="1127160" cy="0"/>
          </a:xfrm>
          <a:prstGeom prst="line">
            <a:avLst/>
          </a:prstGeom>
          <a:ln w="13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32760" y="4424760"/>
            <a:ext cx="1492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018640" y="4807800"/>
            <a:ext cx="2057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lant  (16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19440" y="4261680"/>
            <a:ext cx="1665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Pts (2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51480" y="5099760"/>
            <a:ext cx="1600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ths (14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54800" y="5404680"/>
            <a:ext cx="1349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04200" y="5609520"/>
            <a:ext cx="1095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s (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183160" y="2714040"/>
            <a:ext cx="1639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ysis (6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94960" y="16225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8880" y="63104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7960" y="104760"/>
            <a:ext cx="93153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revalence and Incidence  1990 - 1997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acific Islanders -  New Zealand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219320"/>
            <a:ext cx="10287000" cy="77760"/>
          </a:xfrm>
          <a:custGeom>
            <a:avLst/>
            <a:gdLst/>
            <a:ahLst/>
            <a:rect l="l" t="t" r="r" b="b"/>
            <a:pathLst>
              <a:path w="5869" h="1">
                <a:moveTo>
                  <a:pt x="0" y="0"/>
                </a:moveTo>
                <a:lnTo>
                  <a:pt x="58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99880" y="1751040"/>
          <a:ext cx="758052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751040"/>
                    <a:ext cx="75805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7997040" y="1740600"/>
            <a:ext cx="1845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 )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50360" y="2044800"/>
            <a:ext cx="1127160" cy="0"/>
          </a:xfrm>
          <a:prstGeom prst="line">
            <a:avLst/>
          </a:prstGeom>
          <a:ln w="13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07280" y="4151880"/>
            <a:ext cx="1492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950240" y="4509360"/>
            <a:ext cx="2057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lant  (2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71640" y="4839480"/>
            <a:ext cx="1665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Pts (15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41480" y="5118840"/>
            <a:ext cx="1474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ths (7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4120" y="5423760"/>
            <a:ext cx="1349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64600" y="5666760"/>
            <a:ext cx="1095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s (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56160" y="2590200"/>
            <a:ext cx="1639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ysis (78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88480" y="16225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920" y="63104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03320" y="1117440"/>
          <a:ext cx="82170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117440"/>
                    <a:ext cx="82170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Living Dialysis and Transplants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New Zealand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066680"/>
            <a:ext cx="10287000" cy="921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12040" y="1293840"/>
            <a:ext cx="321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4920" y="6111720"/>
            <a:ext cx="6996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2900" spc="-1" strike="noStrike">
                <a:solidFill>
                  <a:srgbClr val="ffffff"/>
                </a:solidFill>
                <a:latin typeface="Arial"/>
              </a:rPr>
              <a:t>92  </a:t>
            </a:r>
            <a:r>
              <a:rPr b="0" lang="en-AU" sz="2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AU" sz="2900" spc="-1" strike="noStrike">
                <a:solidFill>
                  <a:srgbClr val="ffffff"/>
                </a:solidFill>
                <a:latin typeface="Arial"/>
              </a:rPr>
              <a:t>93       94        95       96       97</a:t>
            </a: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02520" y="1386000"/>
            <a:ext cx="2608200" cy="1454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3320" y="63356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06560" y="453600"/>
            <a:ext cx="4724640" cy="5223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New Patients- New Zealand</a:t>
            </a:r>
            <a:br>
              <a:rPr sz="3000"/>
            </a:br>
            <a:endParaRPr b="1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66680"/>
            <a:ext cx="1028700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95480" y="1173240"/>
          <a:ext cx="821664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173240"/>
                    <a:ext cx="821664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293840" y="1471680"/>
            <a:ext cx="39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New Pat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3680" y="636120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5920" y="447840"/>
            <a:ext cx="7543800" cy="522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Transplants Performed - New Zealand</a:t>
            </a:r>
            <a:br>
              <a:rPr sz="3400"/>
            </a:br>
            <a:endParaRPr b="1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65240"/>
            <a:ext cx="1028700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6680" y="1371600"/>
          <a:ext cx="82170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82170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306080" y="1471680"/>
            <a:ext cx="380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Transpl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7760" y="2112840"/>
            <a:ext cx="2590560" cy="6019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2240" y="6348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6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9000" y="441000"/>
            <a:ext cx="3276720" cy="5223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Deaths - New Zealand</a:t>
            </a:r>
            <a:br>
              <a:rPr sz="3000"/>
            </a:br>
            <a:endParaRPr b="1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66680"/>
            <a:ext cx="10287000" cy="921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54080" y="1522440"/>
          <a:ext cx="821520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522440"/>
                    <a:ext cx="82152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344600" y="144612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 of Deat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5840" y="2043000"/>
            <a:ext cx="4419720" cy="568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1840" y="633564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6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143000" y="1143000"/>
          <a:ext cx="759780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59780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66880" y="1765440"/>
            <a:ext cx="5105520" cy="482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2280" y="12193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04920" y="1187280"/>
            <a:ext cx="159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04960" y="22860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atients Alive: Functioning Transplant or Dialysis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1987-19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10287000" cy="921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63104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8-09-29T04:52:27Z</cp:lastPrinted>
  <dcterms:modified xsi:type="dcterms:W3CDTF">2003-07-22T01:37:37Z</dcterms:modified>
  <cp:revision>402</cp:revision>
  <dc:subject/>
  <dc:title>Excell</dc:title>
</cp:coreProperties>
</file>